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7. Exkursion: Software Herst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A73B-ACDE-46E9-BEAD-E437BAC38BE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k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6:26Z</dcterms:modified>
  <cp:revision>69</cp:revision>
  <dc:subject/>
  <dc:title>PowerPoint Presentation</dc:title>
</cp:coreProperties>
</file>