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6. Rechtliche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3ABD-7253-456D-B6DF-8FD0AED52A10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5:36Z</dcterms:modified>
  <cp:revision>68</cp:revision>
  <dc:subject/>
  <dc:title>PowerPoint Presentation</dc:title>
</cp:coreProperties>
</file>