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5. Software-Entwicklung II: IT Projekt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E8D98-7757-4258-94AD-255C4B8E831A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-Entwicklung: IT Projektmanag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0-20T17:34:59Z</dcterms:modified>
  <cp:revision>67</cp:revision>
  <dc:subject/>
  <dc:title>PowerPoint Presentation</dc:title>
</cp:coreProperties>
</file>