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 Software-Entwicklung I: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CD79-262E-4416-A1E0-61CAD48B184A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ierung der/des Diplom-Pflegewir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 befindet sich die Pflegefachkraft im Modellierungsproz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ussdia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6:12Z</dcterms:modified>
  <cp:revision>69</cp:revision>
  <dc:subject/>
  <dc:title>PowerPoint Presentation</dc:title>
</cp:coreProperties>
</file>