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3. Datenschutz / Datensicherh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2612-5C92-419E-AEFD-F635688EE329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atenschutz-berlin.de/" TargetMode="External"/><Relationship Id="rId2" Type="http://schemas.openxmlformats.org/officeDocument/2006/relationships/hyperlink" Target="http://www.datenschutz-berlin.de/" TargetMode="External"/><Relationship Id="rId3" Type="http://schemas.openxmlformats.org/officeDocument/2006/relationships/hyperlink" Target="http://www.datenschutzzentrum.de/" TargetMode="External"/><Relationship Id="rId4" Type="http://schemas.openxmlformats.org/officeDocument/2006/relationships/hyperlink" Target="http://www.datenschutz.de/" TargetMode="External"/><Relationship Id="rId5" Type="http://schemas.openxmlformats.org/officeDocument/2006/relationships/hyperlink" Target="http://www.bfd.bund.de/" TargetMode="External"/><Relationship Id="rId6" Type="http://schemas.openxmlformats.org/officeDocument/2006/relationships/hyperlink" Target="http://europa.eu.int/comm/internal_market/privacy/index.htm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schut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sicherheit: Risi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isiken, welche die innerbetriebliche Datensicherheit gefährden könn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griff durch unbefugte Pers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arbeiter innerhalb des Betriebes (z.B. durch Passwortdiebstah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, die von Mitarbeitern mitgenommen und auf den heimischen Rechner kopiert wu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mputervi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hler befugter Pers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werden an Personen versandt, die nicht dem erwünschten Empfänger entsprechen (z.B. per unverschlüsselter E-Ma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enden der Hardware, z.B. du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bstah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verkauf einer Festplatte, die nicht sicher gelöscht wu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sicherheit: Maßna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Que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utschla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://www.datenschutz-berli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www.datenschutzzentrum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http://www.datenschutz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http://www.bfd.bund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urop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http://europa.eu.int/comm/internal_market/privacy/index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3-27T19:00:40Z</dcterms:modified>
  <cp:revision>67</cp:revision>
  <dc:subject/>
  <dc:title>PowerPoint Presentation</dc:title>
</cp:coreProperties>
</file>