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 Software V: Branchensoftware in der Pf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C368-9523-4ADD-9BE9-E0BBC617103C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flegeplan.de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dicotec.de/" TargetMode="External"/><Relationship Id="rId2" Type="http://schemas.openxmlformats.org/officeDocument/2006/relationships/hyperlink" Target="http://www.pharmamedconcept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langestal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langest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Geocon Dienstpla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.geocon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Pflegemeister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pflegeplan.d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.pflegeplanung-software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lemzentrierte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DocuMedis - Wunddokumentation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medicotec.de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pharmamedconcept.com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Qualitäts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kunftsaussich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1T16:39:03Z</dcterms:modified>
  <cp:revision>66</cp:revision>
  <dc:subject/>
  <dc:title>PowerPoint Presentation</dc:title>
</cp:coreProperties>
</file>