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58323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Software IV: Branchenneutrale Software-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FF5D-9820-4F2D-BEAF-E99AAC24272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rexx.de/" TargetMode="External"/><Relationship Id="rId2" Type="http://schemas.openxmlformats.org/officeDocument/2006/relationships/hyperlink" Target="http://www.intrexx.de/" TargetMode="External"/><Relationship Id="rId3" Type="http://schemas.openxmlformats.org/officeDocument/2006/relationships/hyperlink" Target="http://www.elo-digital.de/" TargetMode="External"/><Relationship Id="rId4" Type="http://schemas.openxmlformats.org/officeDocument/2006/relationships/hyperlink" Target="http://bscw.gmd.de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20q.net/" TargetMode="External"/><Relationship Id="rId2" Type="http://schemas.openxmlformats.org/officeDocument/2006/relationships/hyperlink" Target="http://www.20q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Software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Standard-Software findet sich ein breiter Markt an branchenneutralen Software-Syst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er Sicht der Pflegeinformatik gehören zu den branchenneutralen Software-Systemen alle EDV-Anwendungen, die ausschließlich in betrieblichen Umgebungen eingesetzt werden und dabei nicht an einer Branche ausgerichte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achfolgenden Ausführen lehnen sich an Stahlknecht / Hasenkamp an (siehe Literaturverzeichni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llbasiertes Schließen: Ablau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124000" y="1268280"/>
            <a:ext cx="4464000" cy="4032360"/>
            <a:chOff x="2124000" y="1268280"/>
            <a:chExt cx="4464000" cy="4032360"/>
          </a:xfrm>
        </p:grpSpPr>
        <p:sp>
          <p:nvSpPr>
            <p:cNvPr id="72" name=""/>
            <p:cNvSpPr/>
            <p:nvPr/>
          </p:nvSpPr>
          <p:spPr>
            <a:xfrm>
              <a:off x="2124000" y="126828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eneinga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24000" y="472428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ermutete Lös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60720" y="184464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nahme des Falls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 die Datenb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24000" y="357336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Ähnlichkeits-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naly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24000" y="242100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enverglei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Retriev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59280" y="357336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orrektur der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ngabe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2987280" y="1844640"/>
              <a:ext cx="2737080" cy="2879640"/>
              <a:chOff x="2987280" y="1844640"/>
              <a:chExt cx="2737080" cy="2879640"/>
            </a:xfrm>
          </p:grpSpPr>
          <p:sp>
            <p:nvSpPr>
              <p:cNvPr id="79" name=""/>
              <p:cNvSpPr/>
              <p:nvPr/>
            </p:nvSpPr>
            <p:spPr>
              <a:xfrm>
                <a:off x="2987640" y="18446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987640" y="299736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987640" y="414828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51280" y="386064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2987280" y="2133720"/>
                <a:ext cx="18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5724360" y="2420640"/>
                <a:ext cx="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jeden Bereiche branchenneutraler Software-Systeme bietet der Markt eine Vielzahl von Anwendungen an. Achten Sie daher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muss alle Funktionen erfüllen, die Sie vorher als Anforderung definiert haben (Beispiel: Finanzbuchhaltung muss den „Grundsätzen ordnungsgemäßer Buchführung (GoB) - § 239 Abs. 2 HGB“ Rechnung trag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ährend der Arbeitsabläufe müssen die Daten vor technischen Fehlern geschützt sei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schutzrichtlinien müssen gewährleiste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Software-Systeme: Kategor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sundheitswesen sind folgende branchenneutrale Software-Systeme für die Praxis releva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ministrations- und Disposi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ssensbasierte 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ministrations- und Disposi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ministrationssyste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rationalisieren vorhandene Arbeitsabläuf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- und Leistungsrechn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nanzbuchhaltung (Debitoren- und Kreditorenbuchhalt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hn- und Gehaltsabrechn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spositionssyste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nen der Vorbereitung von Entscheidungsfindungsprozessen. D. h. das System vereinfacht Aufgabenstellungen oder erledigt diese voll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quidationsplanung im Finanzwe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betrieblichen Informationsaustausch kennzeichnend ist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austausch zwischen geschlossenen Benutzergrupp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ilnehm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trieblichen Informationsaustausch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(int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n (Liefer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eferanten (Bestell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ken (Zahlungsverke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örden (Melde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ysteme unterstützen andere im Betrieb verwendete Software-Systeme, indem Sie eine direkte Schnittstelle zwischen den Teilnehmern anbieten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 Der ambulante Pflegedienst A verwendet eine Software zur Buchführung. Durch den Einsatz von Systemen, die den elektronischen Informationsaustausch ermöglichen (z.B. DATEV), steigert sich die Produktivität erheb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facheingaben werden auf ein Minimum reduz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eschwindigkeit der Kommunikation zwischen den Teilnehmern wird erheblich gesteigert. Dadurch kö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wortzeiten verkürz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Kundenbindung gesteiger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gerbestände reduziert 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ttbewerbsvorteile geschaff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problem im Gesundheitswes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 Datenschutzrichtlinien verhindern oftmals die elektronische Datenübermitt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ent Management 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rex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://www.intrex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n-Management-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O-Offic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www.elo-digital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CW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http://bscw.gm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lectronic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grif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„Electronic Business“ wird verwendet, wenn alle Geschäftsprozesse per Internet zwischen den Geschäftspartnern stattfinden. Ausgenommen hiervon sind Prozesse, die nicht per Datenübermittlung stattfinden kön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rei Berei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Electronic Busine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B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Unterneh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C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dem eigenen Unternehmen und dem Kun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A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dem eigenen Unternehmen und Verwaltungseinrichtungen</a:t>
            </a: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läuterung: B = Business; C = Consumer; A =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aussetz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lle Beteiligten müssen über die entsprechenden technischen und softwareseitigen Einrichtungen verfüg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ssensbasierte 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ssensbasierte Systeme dienen der Auswertung menschlichen Wissens, das in gespeicherter Form bereit steht. Dabei werden Methoden der Künstlichen Intelligienz (KI) verwend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Künstliche Intelligenz beschäftigt sich mit der Umsetzung menschlicher (intelligenter) Verhaltensweisen in Computer-Programme, die diese Verhaltensweisen reproduzier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33577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chtigsten Anwendungen für den Bereich der Pflege / Medizin si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llbasiertes Schließen (Differential-Diagnosti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verarbeitung (Diagnosti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achverarbeitung (Schreibarbeiten, Gerätesteuer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botik (O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llbasiertes Schließen: 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Case Based Reasoning (CBR)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fahren, mit dem Probleme gelöst werden, indem auf Erfahrungswissen zurück gegriffen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enthält eine Datenbank den sog. „Fallspeicher“ oder „Falldatenbasis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System erfragt vom Nutzer unterschiedliche Variab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die Eingaben mit der Datenbasis ver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ießlich erhält der Nutzer die „Antwort“. Sie ist das Ergebnis der verglichenen Daten mit der höchsten Übereinstimm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Erweiterung der Datenbasis werden die Eingaben als neue Lösungsmöglichkeiten in die Datenbank mit aufgenommen (Selbstlerneffekt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20q.net/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denken sich einen Gegenstand aus, beantworten anschließend 20 Fragen und der Computer errät Ihren Gegenst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9T20:57:22Z</dcterms:modified>
  <cp:revision>77</cp:revision>
  <dc:subject/>
  <dc:title>PowerPoint Presentation</dc:title>
</cp:coreProperties>
</file>