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13.png" ContentType="image/png"/>
  <Override PartName="/ppt/media/image6.png" ContentType="image/png"/>
  <Override PartName="/ppt/media/image22.jpeg" ContentType="image/jpeg"/>
  <Override PartName="/ppt/media/image7.png" ContentType="image/png"/>
  <Override PartName="/ppt/media/image1.jpeg" ContentType="image/jpeg"/>
  <Override PartName="/ppt/media/image8.png" ContentType="image/png"/>
  <Override PartName="/ppt/media/image11.jpeg" ContentType="image/jpeg"/>
  <Override PartName="/ppt/media/image9.jpeg" ContentType="image/jpeg"/>
  <Override PartName="/ppt/media/image28.png" ContentType="image/png"/>
  <Override PartName="/ppt/media/image5.png" ContentType="image/pn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image29.png" ContentType="image/png"/>
  <Override PartName="/ppt/media/image21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8988425" cy="129095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2. Hardware I: Rechnertypen und -komponen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AF576-7713-4091-80DF-78B74CC69400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e-online.de/" TargetMode="External"/><Relationship Id="rId2" Type="http://schemas.openxmlformats.org/officeDocument/2006/relationships/hyperlink" Target="http://www.e-online.de/" TargetMode="External"/><Relationship Id="rId3" Type="http://schemas.openxmlformats.org/officeDocument/2006/relationships/hyperlink" Target="http://www.e-online.de/" TargetMode="External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bios-info.de/" TargetMode="External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8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www.glossar.de/" TargetMode="External"/><Relationship Id="rId2" Type="http://schemas.openxmlformats.org/officeDocument/2006/relationships/hyperlink" Target="http://glossary.ges-training.de/glossar/" TargetMode="External"/><Relationship Id="rId3" Type="http://schemas.openxmlformats.org/officeDocument/2006/relationships/hyperlink" Target="http://www.computer-woerterbuch.de/" TargetMode="External"/><Relationship Id="rId4" Type="http://schemas.openxmlformats.org/officeDocument/2006/relationships/hyperlink" Target="http://www.computer-woerterbuch.de/" TargetMode="External"/><Relationship Id="rId5" Type="http://schemas.openxmlformats.org/officeDocument/2006/relationships/hyperlink" Target="http://www.computer-woerterbuch.de/" TargetMode="External"/><Relationship Id="rId6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nertyp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416320" y="1742400"/>
            <a:ext cx="4311360" cy="3733920"/>
            <a:chOff x="2416320" y="1742400"/>
            <a:chExt cx="4311360" cy="3733920"/>
          </a:xfrm>
        </p:grpSpPr>
        <p:sp>
          <p:nvSpPr>
            <p:cNvPr id="53" name="_s5132"/>
            <p:cNvSpPr/>
            <p:nvPr/>
          </p:nvSpPr>
          <p:spPr>
            <a:xfrm flipV="1">
              <a:off x="2416320" y="4729680"/>
              <a:ext cx="4311360" cy="746280"/>
            </a:xfrm>
            <a:custGeom>
              <a:avLst/>
              <a:gdLst>
                <a:gd name="textAreaLeft" fmla="*/ 588600 w 4311360"/>
                <a:gd name="textAreaRight" fmla="*/ 3722760 w 4311360"/>
                <a:gd name="textAreaTop" fmla="*/ 101880 h 746280"/>
                <a:gd name="textAreaBottom" fmla="*/ 644400 h 74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Personalcomputer (P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_s5135"/>
            <p:cNvSpPr/>
            <p:nvPr/>
          </p:nvSpPr>
          <p:spPr>
            <a:xfrm flipV="1">
              <a:off x="2847960" y="3981960"/>
              <a:ext cx="3448080" cy="747720"/>
            </a:xfrm>
            <a:custGeom>
              <a:avLst/>
              <a:gdLst>
                <a:gd name="textAreaLeft" fmla="*/ 518760 w 3448080"/>
                <a:gd name="textAreaRight" fmla="*/ 2929320 w 3448080"/>
                <a:gd name="textAreaTop" fmla="*/ 112320 h 747720"/>
                <a:gd name="textAreaBottom" fmla="*/ 635400 h 74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Workst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_s5131"/>
            <p:cNvSpPr/>
            <p:nvPr/>
          </p:nvSpPr>
          <p:spPr>
            <a:xfrm flipV="1">
              <a:off x="3278160" y="3236760"/>
              <a:ext cx="2587680" cy="745920"/>
            </a:xfrm>
            <a:custGeom>
              <a:avLst/>
              <a:gdLst>
                <a:gd name="textAreaLeft" fmla="*/ 449280 w 2587680"/>
                <a:gd name="textAreaRight" fmla="*/ 2138400 w 2587680"/>
                <a:gd name="textAreaTop" fmla="*/ 129240 h 745920"/>
                <a:gd name="textAreaBottom" fmla="*/ 616680 h 745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Stand-Alone-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_s5134"/>
            <p:cNvSpPr/>
            <p:nvPr/>
          </p:nvSpPr>
          <p:spPr>
            <a:xfrm flipV="1">
              <a:off x="3710160" y="2488320"/>
              <a:ext cx="1723680" cy="747720"/>
            </a:xfrm>
            <a:custGeom>
              <a:avLst/>
              <a:gdLst>
                <a:gd name="textAreaLeft" fmla="*/ 379080 w 1723680"/>
                <a:gd name="textAreaRight" fmla="*/ 1344600 w 1723680"/>
                <a:gd name="textAreaTop" fmla="*/ 164160 h 747720"/>
                <a:gd name="textAreaBottom" fmla="*/ 583560 h 74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Mainframes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(0,5 bis 15 Mio. €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_s5130"/>
            <p:cNvSpPr/>
            <p:nvPr/>
          </p:nvSpPr>
          <p:spPr>
            <a:xfrm flipV="1">
              <a:off x="4140360" y="1742040"/>
              <a:ext cx="863280" cy="746280"/>
            </a:xfrm>
            <a:custGeom>
              <a:avLst/>
              <a:gdLst>
                <a:gd name="textAreaLeft" fmla="*/ 309600 w 863280"/>
                <a:gd name="textAreaRight" fmla="*/ 553680 w 863280"/>
                <a:gd name="textAreaTop" fmla="*/ 267840 h 746280"/>
                <a:gd name="textAreaBottom" fmla="*/ 478440 h 74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Supercompu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(20 bis 30 Mio. €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gabemedien - Übersich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stat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rackb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afiktablet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n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rcode-Lesegerä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rührungsempfindliche Geräte (Touchscreen, Mousepad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hip-Karten-Lesegerä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krofon (Spracheingab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gabemedien - Tastat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k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rekte Zeicheneinga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cheid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ndard-Tastat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staturen mit Zusatzfunktio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scheidungskriter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belverbindung / Fu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inigung der Tastat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schlag der Tas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enken Sie, dass die Tastatur Ihr ständiges Arbeitsmittel zur Dateneingabe ist. Eine gute Tastatur rechtfertigt auch eine entsprechende Mehrausgab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zichten Sie auf herstellerspezifische Tasten! Falls doch: Einführung der Tastatur im gesamten Unterneh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rnen Sie die Funktionen der „Standard-Sondertasten“ kennen (F-Tasten, Esc-Taste, Strg-Taste, Alt-Taste, Windows-Taste, Druck-Tas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076720" y="1484280"/>
            <a:ext cx="238140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gabemedien - Mau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k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uerung des Mauszeig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ndard-Mau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wei Tas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 Scroll-R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scheidungskriter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belverbindung / Fu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inig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nks- / Rechtshän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ptische Maus ist weniger störanfäll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kmaus benötigt ständig Batteri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satztasten benötigen auch zusätzliche Treib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219640" y="1413000"/>
            <a:ext cx="2077920" cy="24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gabemedien - Scann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k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lesen bestehender Da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cheid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allel / USB-Scan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SI-Scanner (schnell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scheidungskriter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zahl der Scan-Vorgänge pro Ta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öße der Vorlage (z.B. DIN A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gute Dokumentenscanner zur Zeit noch sehr teu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enke: Zusatzkosten durch gute 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ldbearbei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xterkennung (OCR = Optical Character Recogni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227640" y="4653000"/>
            <a:ext cx="2210040" cy="1628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364000" y="1484280"/>
            <a:ext cx="285768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gabemedien - Entscheidungshilf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lgemeine Kriter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chaffen Sie Standard-Gerä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zichten Sie auf Geräte mit Zusatzfunktionen. (Bedenke: Lernaufwa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legungen vor dem Kauf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das Eingabegerät wirklich benötig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spricht die Geräteleistung den Anforderungen (Bsp.: Einscannen von Dokumenten sehr zeitaufwändig. Profigeräte hingegen sehr teuer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die notwendige Schnittstelle zum Anschluss des Gerätes vorhand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werten Sie, wie viele Mitarbeiter das Zehn-Finger-System beherrsche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entscheidend für den „Zeitfaktor Dateneingabe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ventuell Schulung in Betracht ziehen. (große Zeitersparni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medien - Übersich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ldschi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inwand-Projektoren (Beam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ruc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utsprec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krofil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859280" y="981000"/>
            <a:ext cx="2406600" cy="24066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medien - Bildschir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125360"/>
            <a:ext cx="78469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t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öhrenmonitor (Bildbearbeit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lachbildschirm (Textverarbeit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öß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ndestgröße 17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1“-Monitor für Bildbearbei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lachbildschirm 15“ ist gleich Röhre 17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scheidungskriter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ldwiederholfrequenz (min. 70 Hert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lösung (min. 1024 * 768 Pix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uter Kontrast &amp; Helligke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CO'99 Prüfsiegel (Ergonomi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eis (Flachbildschirme sind teu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 qualitativ hochwertiger Bildschirm lohnt sich bei langen Bildschirm-Arbeitszeiten in jedem Fa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gleichen Sie die Monitore nebeneinander. (Sichtkontrol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lachbildschirme sind teurer, jedoch absolut flimmerfrei. Deshalb sehr gute Eignung für Textverarbeit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372360" y="2349360"/>
            <a:ext cx="2033280" cy="23767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572000" y="155736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1844640"/>
            <a:ext cx="2016360" cy="1224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medien - Druck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125360"/>
            <a:ext cx="78469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t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serdruc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intenstrahldruc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deldruc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ezialgerä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lot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rmodruc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ypenraddruc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stScript-Druc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medien – Drucker: Laserdruck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384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schneller Druck (bis 30 Seiten pro Minu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hohe Druckqualitä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edrige Druckkosten (5 C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rbdruck sehr teu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oher Anschaffungspreis (Gerä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serdrucker sind der Standard im betrieblichen Druc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ngebiet: Text- und Formulardruc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nahme: Farbdruck (in der Regel reicht ein Tintenstrahldruck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012000" y="1341360"/>
            <a:ext cx="216036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medien – Drucker: Tintenstrahldruck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tlere Druckgeschwindigkeit (10 Seiten pro Minu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hohe Druck-Qualitä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ünstiger Farbdruck (kleine Auflag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tlere Druckkosten (10 Cent Schwarz-Wei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tlerer Anschaffungspreis (Gerä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 billiger der Drucker, desto teurer das Verbrauchsmaterial (Tint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gnen sich für mittleren Druckaufwa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gute Eignung für gelegentliche Farbdruck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ute Geräte ermöglichen sehr guten Fotodruc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372360" y="1052640"/>
            <a:ext cx="209376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blick - Komponen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43280" y="1484280"/>
            <a:ext cx="3313080" cy="4681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ehä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1916280"/>
            <a:ext cx="194328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entraleinheit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Motherboar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83000" y="3933720"/>
            <a:ext cx="194292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tenspeic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1440" y="1916280"/>
            <a:ext cx="1942920" cy="100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erät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teneinga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43640" y="1916280"/>
            <a:ext cx="1943280" cy="100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erät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tenausga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56000" y="2421000"/>
            <a:ext cx="863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508720" y="2421000"/>
            <a:ext cx="863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49600" y="2997360"/>
            <a:ext cx="0" cy="86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medien – Drucker: Nadeldruck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rmulardruck mit Durchschlägen mögli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ngsame Druckgeschwindigkeit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5 Seiten pro Minu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niedrige Druckkosten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1 Cent pro Sei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lechte Druckqualitä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 Farbdruck mögl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tlerer Anschaffungspreis (Gerä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ur noch sinnvoll, wen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chschläge erwünscht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Qualität nicht von Bedeutung i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940360" y="1413000"/>
            <a:ext cx="2279880" cy="20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medien – Lautsprec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yste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no / Stere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bwover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urround-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öglichen akustische Ausgab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fordern eigenen Stellplat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Zukunft von Bedeutung, da akustische Rückmeldung und Spracheingabe und Sprachausgabe zunehmen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urround-Sound nicht notwend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ventl. Monitor mit integriertem Lautsprecher benutz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443640" y="4797360"/>
            <a:ext cx="1587600" cy="12956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788000" y="1268280"/>
            <a:ext cx="33336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medien - Entscheidungshil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lgemeine Kriter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chaffen Sie Standard-Gerä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zichten Sie auf Geräte mit Zusatzfunktionen. (Bedenke: Lernaufwa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legungen vor dem Kauf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das Ausgabegerät wirklich benötig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nn das Gerät von mehreren Rechnern gleichzeitig benutzt werden? (z.B. Druck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nd dafür Zusatzgeräte notwendig (z.B. Printserv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s soll das Gerät im Standard-Betrieb leist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s soll das Gerät in Ausnahmefällen leisten? (z.B. Farbdruc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ibt es arbeitsergonomische Vorgaben (die verbindlich sind)?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z.B. Bildschirmarbeitsplatzverordn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ch als „Mainboard“ oder „Hauptplatine“ bezeich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chtigste Bestand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z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hipsat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tter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OS-R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ckplätze (Speicher, Karten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us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ystemuh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os im Internet:</a:t>
            </a:r>
            <a:br>
              <a:rPr sz="1600"/>
            </a:b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www.e-online.de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5796000" y="184464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4834080" y="2030400"/>
            <a:ext cx="343692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- Prozess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gentlich: Mikroproz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ch als CPU bezeich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PU = Central Processing Un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ersteller AMD und Int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teht au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uerwe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ordinierung der Befeh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chenwe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ührt die Berechnungen du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-Proz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leitkomma-Rechn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tge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itiiert die einzelnen Stromimpu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 MHz entspricht 1 Mio. Takte pro Min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076720" y="1341360"/>
            <a:ext cx="3175200" cy="21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- Chipsatz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uert den Datenfluss zwisch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z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beitsspeicher (RA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nittstellen (EIDE, AGP, US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ussystem (PCI, IS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ung: Der Chipsatz benötigt einen eigenen Treiber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- R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AM = Random Access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 genannter „flüchtiger Speicher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.h. Daten werden bei Stromunterbrechung gelösch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: Speichert alle Daten während des Rechnerbetrieb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: Sehr schneller Datenzugriff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ckplätze werden als SIMM-Module bezeichnet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Single In-line Memory Modu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öße ist abhängig von der verwendeten Software. Für den Arbeitsplatzrechner in der Pflege gil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nd. 128 MB 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x. 512 MB RAM sinnv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hr bei Serversyste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835280" y="479736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859280" y="3854520"/>
            <a:ext cx="3095640" cy="21668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5075280" y="3710160"/>
            <a:ext cx="1687320" cy="736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- BI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OS = Basic Input Output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auch als BIOS-ROM bezeich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OM = Read Only Memory (nicht flüchtiger Speich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.h. Daten bleiben auch erhalten, wenn der Rechner vom Stromnetz getrennt wi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onderheit des BIOS-RO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undeinstellungen bleiben immer erhal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stellungen des Benutzers bleiben nur erhalten, solange die Batterie des Motherboards funktionstüchtig is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OS stellt den hardwareseitigen Teil des Betriebssystems d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öglicht alle hardwareseitigen Einstellungen, z.B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estplatte (Anzahl der Spuren, Sektoren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ootreihenfolge (zuerst von Diskette oder Festplat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itere Informationen zu Einstellungen unter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www.bios-info.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Power-on-Self-Test (POST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OS wird angesprochen und dessen Befehle abgearbeit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lauf des POST-Vorgangs (Was wird geprüft?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zessor funktionier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us-System funktionier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ystemuhr funktionier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afikkarte funktionier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beitsspeicher (RAM) funktionier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statur angeschloss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oot-Laufwerk wird gesucht – funktionier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ue Hardware wird erkan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mponenten mit eigenem BIOS werden erkannt und geprüft (SCSI, Plug &amp; Play-Komponent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rt des softwareseitigen Betriebssystems (vom Bootlaufwer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- Bus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öglicht die Weiterleitung der Daten zwischen den einzelnen Komponen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teilung i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bus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ransportiert Daten zwischen Prozessor und Hauptspeich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dressbus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ist die entsprechende Adresse z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uerbus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uert ob Daten gelesen oder geschrieben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ten von Bussystemen (siehe auch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 action="ppaction://hlinksldjump"/>
              </a:rPr>
              <a:t>Steckplätz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G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häuse – Deskto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rbeitsplatz eines Mitarbei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onitor kann auf dem Rechner platzier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gnung: Arbeitsplatz mit häufigem Zugriff auf Diskettenlaufwerk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Je nach Hersteller wenig bis keine Erweiterungsmöglichkeit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hwierigerer Austausch von Komponenten (z.B. Festplat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 der Anschaffung sollte der benötigte Stellplatz bedacht werden. Voraussetzung ist ein großflächiger Bürotis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724360" y="4508640"/>
            <a:ext cx="2533680" cy="14284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 flipH="1">
            <a:off x="7885080" y="4508640"/>
            <a:ext cx="216000" cy="865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– Bussystem: Datenspeich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nittstellenstandard: E-IDE = Enhanced Integrated Device Equi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schluss für Festplatten, CD-ROM- und DVD-Laufwer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übertragungsverfahren UDM = Ultra Direct Memory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öglicht die direkte Datenübertragung zwischen Festplatte und Arbeitsspeicher unter Umgehung der CP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DMA 66, 100, 133 (höherer Wert = größerer Datendurchsat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mdrehungen 5.400 oder 7.200 pro Min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nderfall SCS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SI = Small Computer System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ochleistungsanschluss für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nelle Datenübertrag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rminierung erforderlich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.B. fü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estplat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n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788000" y="3716280"/>
            <a:ext cx="3436920" cy="24066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686640" y="3643200"/>
            <a:ext cx="1081080" cy="936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– Bussystem: Steckplät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G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GP = Accelerated Graphics 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rt für Grafikkar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C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CI = Peripheral Component Interconn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2-Bit Adap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lug &amp; P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.B. Netzwerk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A = Industry Standard Archite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8 bis 16-Bit Adap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 Plug &amp; P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.B. Netzwerk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376960" y="1052640"/>
            <a:ext cx="32335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– Bussystem: Steckplätze &gt; Grafikkar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t der grafischen Ausgabe der Daten auf dem Bildschir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rte nutzt den AGP-Steckplat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seltenen Fällen auch Karten für PCI-Steckplat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g. Dual-Head-Karten zum Betrieb von zwei Monitor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ute Karte nur für Bildbearbeitung oder Spiele notwendig. Ansonsten reicht eine Standard-Karte au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ndards nach Auflösung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GA: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640 * 480 Pix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VGA: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800 * 600 Pix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XGA: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024 * 768 Pix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XGA: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280 * 1024 Pix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XGA: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600 * 1200 Pix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QXGA: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048 * 1536 Pix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076720" y="2708280"/>
            <a:ext cx="32403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– Bussystem: Steckplätze &gt; Weitere Kar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A-Karten sind veraltet und können in neuen Rechnern nicht mehr verwende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zeitiger Standard: PCI-Kar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wendungsbeispie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undkarte: ermöglicht Ein- und Ausgabe von Audiosignal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tzwerkkarte: ermöglicht die Verbindung mehrerer lokaler Rech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rten zur Verbindung mit dem Interne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DN-Adap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SL-Adapter (enthält Modem und Netzwerkkar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sätzliche Schnittstell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itere USB-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iterer Parallel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SI-Schnitts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AID-Contro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chnittstell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rallele-Schnittstelle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räte wie, Drucker, Scanner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och häufig im Einsat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rielle-Schnittstelle (12, 1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altete Schnittstel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S/2-Schnittstelle (2 und 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us-Anschlu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astatur-Anschlu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ideo-Anschlu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onitor-Anschlu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dio-Anschlüsse: Eingang (6), Ausgang (7), Mikrofon (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SB-Anschluss = Universal Serial Bus (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is zu 127 Gerä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iversell einsetzbar (Maus, Drucker, Scanner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etzwerkanschluss (4) mit Kontrollleuchte (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rDA-Anschluss = Infrared Device Adapter = Infrarot-Schnittstelle (meist Lapto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irewire-Schnittstel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r Zeit selten verwendet, jedoch immer häufiger im Rechner enthal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he Datenübertragungs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SI-Anschluss (bis zu 15 Gerä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356000" y="620640"/>
            <a:ext cx="46087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medi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724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 Speichermedien versteht man im weiteren Sinne alle Hardware-Komponenten, die der Aufbewahrung von Daten dienen (z.B. ROM, RAM, Diskette, Festplatte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Alltag (sprich: im engeren Sinne) bezeichnet man mit dem Begriff Speichermedien alle Komponenten, die der nicht flüchtigen Datenspeicherung dienen und eine Datenspeicherung durch den Nutzer zulass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go: Man meint damit nicht ROM und RAM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e Speichermedien bezeichnet man auch als „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xterne Speich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thod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gnetspeicher (Diskette, ZIP-Diskette, Festplatte, Magnetband, Magnetkar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ptische Speicher (CD-ROM, DVD-RO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üher: Lochkar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ößenangab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1 KB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= 1 Kilobyte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= 1.024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1 MB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= 1 Megabyte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= 1.024 KB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= 1.048.576 By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1 GB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= 1 Gigabyte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= 1.024 MB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.073.741.824 By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 TB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 1 Terabyte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 1.024 GB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 1.099.511.627.776 By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medien - Disket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öße versus Speicherkapazitä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½ Zoll = 1,44 MB oder 720 K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5¼ Zoll = 1,2 MB oder 360 K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8 Zoll = 180 K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relativ) preisw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hreibschutz manuell aktivierb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ichter Datenaustausch, da praktisch jeder Rechner ein Diskettenlaufwerk besitz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speicherte Daten sind „handhabbar“ und damit leichter zu „begreifen“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icht zu beschädi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ringer Nutzen bei großen Dateien (z.B. Bil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nwei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meiden Sie Kontakt zu Magnetfeldern (z.B. Lautsprech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hutz vor extremer Kälte und Wärme (z.B. Aut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hutz vor Staub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gnetscheibe nicht berühren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788000" y="1197000"/>
            <a:ext cx="1333440" cy="14191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7020000" y="3573360"/>
            <a:ext cx="1422360" cy="14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medien – Festplatte E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ch als Harddisk (aus dem englischen) bezeichn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peicherkapazitä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ann stark variie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r Zeit zwischen 20 MB und 120 G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preisw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oße Speicherkapazitä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ange Lebensdau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 großen Datenmengen, Datenaustausch nur per Netzwerk mögli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schädigung der Festplatte führt zum totalen Datenverlu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echselfestplatte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st keine Festplatte im eigentlichen Sin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ielmehr kann die Festplatte in einem austauschbaren Rahmen eingebau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omit können mehrere Festplatten zur Datensicherung verwende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: Die Festplatte ist somit mobil und kann an einem sicheren Ort aufbewahr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medien – Festplatte E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68360" y="961920"/>
            <a:ext cx="8136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medien – Festplatte SCS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SI = Small Computer System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SI-Festplatten unterscheiden sich äußerlich durch eine andere Steckverbindu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: Meist nur im Server-Betri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sonderhe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s letzte SCSI-Gerät muss „terminiert“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erbei handelt es sich um einen Aufsatz, der den Bus abschließ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rd auf eine Terminierung verzichtet, kommt es zum Datenverlust bzw. das Gerät funktioniert nich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schneller Festplatten-Zugri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teuer (im Vergleich mit EIDE-Festplatt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duzierte Speicherkapazität im Vergleich zu EIDE-Festplat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häuse – Mini T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rbeitsplatz eines Mitarbei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chner kann Platz sparend unter dem Tisch steh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ute Möglichkeiten zur Erweiteru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nötigt eigenen Stellplatz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fahr von Störungen durch Fußtrit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r Zeit am häufigsten gekaufter Gehäusety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4437000"/>
            <a:ext cx="2533680" cy="14288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 flipH="1">
            <a:off x="6877080" y="3716280"/>
            <a:ext cx="288720" cy="1009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medien – ZIP-Laufwe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ersteller Iome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s handelt sich um eine Art „Diskette“, jedoch mit erweiterter Speicherkapazitä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is zu 750 MB Speicherkapazitä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fach zu transportie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chere Datenspeicherung (im Vergleich zu Disket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IP-Laufwerk zum Lesen des Mediums erforderli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m Vergleich zu Festplatten recht teu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medien – CD-Laufwer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tenspeicherung auf CD‘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D = Compact Di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terscheidung nach Art des Laufwerk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D-Laufwerke, die nur lesen könn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D-Laufwerke, die lesen und schreiben können (sog. CD-Brenn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terscheidung nach Art des Medium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D = CD, die nur gelesen werden kan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D-R = CD, die einmal beschrieben werden kan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D-RW = CD, die mehrfach beschrieben und gelöscht werden kan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preisgünstiges Speichermedium (50 CD-R = 17 Eur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peichert relativ große Datenmengen (600 bis 700 M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D-Brenner erforderlich (ca. 100 Eur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m Preis-Leistungs-Verhältnis (meist) das beste Speichermedium zur Datensicheru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medien - Entscheidungshilf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wichtig ist die Datensicherung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edrige Priorität: private Da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ohe Priorität: berufsbezogene Da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hohe Priorität: Unternehmensda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häufig müssen Daten gesichert werd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sicher ist das Speichermedium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edrig: Disket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och: Festplat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hoch: mehrere Kopien im Bankf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teuer ist das Speichermedium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schaffungskosten (z.B. Festplatte, CD-RW Laufwerk, Bandlaufwerk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brauchsmaterialien (z.B. Disketten, CD-ROMs, Bänd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brechungsfreie Stromversorg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SV = Unterbrechungsfreie Stromversorg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genständiges Gerät, dass die Stromversorgung des Rechners während eines Stromausfalls gewährleist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ric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handelt sich um einen Akkumulator, der die 220 Volt Versorgung sicherstel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Stromversorgung bei totalem Stromausfall ist in der Regel bis zu 30 Minuten sicher gestel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cheid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ffline USV: Rechner wird nur bei Stromausfall von der USV versor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nline USV: Rechner wird ständig von der USV versor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spannungen werden geglättet (nur offline-USV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 Stromausfall führt nicht zu Datenverlu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sätzliche Kosten für die Anschaffung des Gerä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bedingt auf die Leistung des Gerätes (Watt) achten. Dementsprechend viele (oder wenige) Verbraucher können angeschlossen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ung für die Pflegepraxis 1 von 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undsätzlich gil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 das teuerste Produkt ist auch das beste Produk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ufen Sie – wenn möglich – den selben Computer mehrfach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Enormes Einsparpotenzial von Wartungsarbeit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ormieren Sie sich über neue Technologi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klärungen zu Abkürzungen im Hardware-Sektor finden sich unt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www.glossar.de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auch als Download verfügba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http://glossary.ges-training.de/glossar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4"/>
              </a:rPr>
              <a:t>www.computer-woerterbuch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5"/>
              </a:rPr>
              <a:t>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istungssteigerung mit Einbuß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enken Sie: Je größer die Leistung, desto eher müssen die Rahmenbedingungen beachte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 „leistungsstarker Prozessor“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nellerer Zugriff auf Da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er: im Betrieb lauter, da größerer Lüfter eingesetzt werden mu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ternative: teures Wasserkühlungssyst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ung für die Pflegepraxis 2 von 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mputer-Neukauf für den Betrieb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vorzugen Sie Fertig-Systeme eines bekannten Computer-Herstellers (keinen Supermarkt-PC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. Grund: Je häufiger das System verkauft wird, desto sicherer kann man sein, dass die Komponenten gut aufeinander abgestimmt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. Grund: Supermarkt-PCs sollen möglichst viele verschiedene Möglichkeiten bieten (sprich: für jeden etwas dabei). Folge: Die Anzahl der Störfaktoren erhöht sich und damit die Fehleranfälligke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zichten Sie auf „selbst gebastelte“ Modelle eines kleinen Händl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und: Praktisch tägliche Änderung der Komponenten. Folge: Der Händler kann nicht abschätzen, ob die Komponenten tatsächlich fehlerfrei miteinander arbei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zichten Sie auf Funk-Komponenten (Tastatur, Maus, Netzwerkkarte), da zur Zeit keine Abhörsicherheit gewährleistet werden kan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ung für die Pflegepraxis 3 von 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chnittstellen-Analyse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legen Sie vor dem Kauf, welche Schnittstellen benötig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enken Sie, das in der Regel (nur) 5 PCI-Steckplätze zur Verfügung ste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enken Sie, das z.B. hochwertige Grafikkarten einen freien Steckplatz zusätzlich benötigen, um Überhitzung zu vermei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n-board-Schnittstellen schaffen freie PCI-Steckplätz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. Problem: Ist die Komponente defekt, funktioniert u.U. das gesamte Motherboard nicht meh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. Problem: Die Beschaffung geeigneter Treiber kann u.U. große Schwierigkeiten berei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. Problem: On-board-Schnittstellen können nicht ausgebaut werden. Achten Sie daher auf die Möglichkeit, das Gerät im BIOS deaktivieren zu kö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häuse – Big T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rbeitsplatz mit vielen Zusatzgerä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oßzügige Erweiterungsmöglichkei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gute Lüftungsverhältnisse (Folge: verminderter Wärmesta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eist zu groß für Standard-Schranksysteme (Folge: Rechner muss frei steh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uer in der Anschaffu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s Platzangebot im Gehäuse wird meist nicht ausgenutzt. Die Anschaffung ist daher in vielen Fällen überflüssi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435640" y="4508640"/>
            <a:ext cx="2533680" cy="14284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 flipV="1">
            <a:off x="4427640" y="5157720"/>
            <a:ext cx="100800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häuse – Server Gehä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leinere Unternehmensserv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robuste Konstruk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gute Lüftungsmöglichkeit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teu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ur sinnvoll, wenn es sich tatsächlich um einen Server handel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ntspricht in der Größe dem eines Big Towe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588000" y="2492280"/>
            <a:ext cx="17910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häuse - Rac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384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tandardgröße: 19 Zo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ternehmensserver, Netzwerk-Vertei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oßzügige Erweiterungsmöglichkeit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häuseschrank ist gleichzeitig „Klimakammer“. Daher hohe Gerätesicherhe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ichter Ein- und Ausbau von Komponent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ringer Platzverbrau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teu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tandard für größere Netzwerk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724360" y="2997360"/>
            <a:ext cx="250524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häuse – Tragbare Compu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384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terscheid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llwertige Rechner: Laptop, Not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chner mit Notizfunktion: Handheld, Orga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obiler Arbeitsplatz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icht zu transportier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äsentationen vor Ort möglich (z.B. mit Powerpoint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teuer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ringe (interne) Erweiterungsmöglichkeit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gleichsweise schlechtere Geräteausstattung (z.B. Bildschirm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leichte Möglichkeit eines Diebstahls (insbesondere der Daten!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ur sinnvoll, wenn tatsächlich ein mobiles Gerät benötigt wir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bedingt den Funktionsumfang bewerten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724360" y="1197000"/>
            <a:ext cx="254016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häuse - Entscheidungshilf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häuse enthält Netzteil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räuschpegel des Lüfters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reichende Ausgangsleistung (300 bis 350 Wat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räuschdämmung (Dämm-Matt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icht zu öffnen (möglichst nicht verschraub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bile Konstruktion (lose Gehäuseteile könnten schnarr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rbe (auffällig oder dezent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2-11-17T17:03:50Z</dcterms:modified>
  <cp:revision>139</cp:revision>
  <dc:subject/>
  <dc:title>PowerPoint Presentation</dc:title>
</cp:coreProperties>
</file>