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583236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9. Software IV: Branchenneutrale Software-Syste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B85A6-1CDD-4E15-852E-DB60A4B2FFE4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ntrexx.de/" TargetMode="External"/><Relationship Id="rId2" Type="http://schemas.openxmlformats.org/officeDocument/2006/relationships/hyperlink" Target="http://www.intrexx.de/" TargetMode="External"/><Relationship Id="rId3" Type="http://schemas.openxmlformats.org/officeDocument/2006/relationships/hyperlink" Target="http://www.elo-digital.de/" TargetMode="External"/><Relationship Id="rId4" Type="http://schemas.openxmlformats.org/officeDocument/2006/relationships/hyperlink" Target="http://bscw.gmd.de/" TargetMode="Externa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20q.net/" TargetMode="External"/><Relationship Id="rId2" Type="http://schemas.openxmlformats.org/officeDocument/2006/relationships/hyperlink" Target="http://www.20q.net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ranchenneutrale Software-Syste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ben Standard-Software findet sich ein breiter Markt an branchenneutralen Software-System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s der Sicht der Pflegeinformatik gehören zu den branchenneutralen Software-Systemen alle EDV-Anwendungen, die ausschließlich in betrieblichen Umgebungen eingesetzt werden und dabei nicht an einer Branche ausgerichtet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nachfolgenden Ausführen lehnen sich an Stahlknecht / Hasenkamp an (siehe Literaturverzeichni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allbasiertes Schließen: Ablau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2124000" y="1268280"/>
            <a:ext cx="4464000" cy="4032360"/>
            <a:chOff x="2124000" y="1268280"/>
            <a:chExt cx="4464000" cy="4032360"/>
          </a:xfrm>
        </p:grpSpPr>
        <p:sp>
          <p:nvSpPr>
            <p:cNvPr id="72" name=""/>
            <p:cNvSpPr/>
            <p:nvPr/>
          </p:nvSpPr>
          <p:spPr>
            <a:xfrm>
              <a:off x="2124000" y="1268280"/>
              <a:ext cx="172728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Dateneingab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24000" y="4724280"/>
              <a:ext cx="172728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Vermutete Lösu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860720" y="1844640"/>
              <a:ext cx="172728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Aufnahme des Falls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in die Datenba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124000" y="3573360"/>
              <a:ext cx="172728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Ähnlichkeits-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analy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24000" y="2421000"/>
              <a:ext cx="172728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Datenverglei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(Retrieval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859280" y="3573360"/>
              <a:ext cx="172728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Korrektur der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Eingabedat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2987280" y="1844640"/>
              <a:ext cx="2737080" cy="2879640"/>
              <a:chOff x="2987280" y="1844640"/>
              <a:chExt cx="2737080" cy="2879640"/>
            </a:xfrm>
          </p:grpSpPr>
          <p:sp>
            <p:nvSpPr>
              <p:cNvPr id="79" name=""/>
              <p:cNvSpPr/>
              <p:nvPr/>
            </p:nvSpPr>
            <p:spPr>
              <a:xfrm>
                <a:off x="2987640" y="1844640"/>
                <a:ext cx="0" cy="57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2987640" y="2997360"/>
                <a:ext cx="0" cy="57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987640" y="4148280"/>
                <a:ext cx="0" cy="57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851280" y="3860640"/>
                <a:ext cx="1008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>
                <a:off x="2987280" y="2133720"/>
                <a:ext cx="1871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V="1">
                <a:off x="5724360" y="2420640"/>
                <a:ext cx="0" cy="11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eutung für die Pflegeprax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ür jeden Bereiche branchenneutraler Software-Systeme bietet der Markt eine Vielzahl von Anwendungen an. Achten Sie daher auf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Software muss alle Funktionen erfüllen, die Sie vorher als Anforderung definiert haben (Beispiel: Finanzbuchhaltung muss den „Grundsätzen ordnungsgemäßer Buchführung (GoB) - § 239 Abs. 2 HGB“ Rechnung tragen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ährend der Arbeitsabläufe müssen die Daten vor technischen Fehlern geschützt sein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Datenschutzrichtlinien müssen gewährleistet s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ranchenneutrale Software-Systeme: Kategorisi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Gesundheitswesen sind folgende branchenneutrale Software-Systeme für die Praxis relevan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dministrations- und Dispositionssyste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ysteme zum elektronischen Informationsaustaus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ssensbasierte Syste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dministrations- und Dispositionssyste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ministrationssystem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rationalisieren vorhandene Arbeitsabläuf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sten- und Leistungsrechn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inanzbuchhaltung (Debitoren- und Kreditorenbuchhaltung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ohn- und Gehaltsabrechn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spositionssystem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dienen der Vorbereitung von Entscheidungsfindungsprozessen. D. h. das System vereinfacht Aufgabenstellungen oder erledigt diese vollständ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quidationsplanung im Finanzwes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ysteme zum elektronischen Informationsaustausc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n betrieblichen Informationsaustausch kennzeichnend ist der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tenaustausch zwischen geschlossenen Benutzergrupp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eilnehm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m betrieblichen Informationsaustausch können sei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arbeiter (inter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unden (Lieferwes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eferanten (Bestellwes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nken (Zahlungsverkeh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hörden (Meldewes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se Systeme unterstützen andere im Betrieb verwendete Software-Systeme, indem Sie eine direkte Schnittstelle zwischen den Teilnehmern anbieten.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spiel: Der ambulante Pflegedienst A verwendet eine Software zur Buchführung. Durch den Einsatz von Systemen, die den elektronischen Informationsaustausch ermöglichen (z.B. DATEV), steigert sich die Produktivität erhebli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ysteme zum elektronischen Informationsaustausc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itere Vor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hrfacheingaben werden auf ein Minimum reduzie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Geschwindigkeit der Kommunikation zwischen den Teilnehmern wird erheblich gesteigert. Dadurch könn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twortzeiten verkürz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Kundenbindung gesteiger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agerbestände reduziert 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ttbewerbsvorteile geschaffen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undproblem im Gesundheitswes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zeitige Datenschutzrichtlinien verhindern oftmals die elektronische Datenübermittl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ysteme zum elektronischen Informationsaustausc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tent Management System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trexx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://www.intrexx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kumenten-Management-System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LO-Office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http://www.elo-digital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SCW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4"/>
              </a:rPr>
              <a:t>http://bscw.gmd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ysteme zum elektronischen Informationsaustausc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lectronic Busi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egrif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„Electronic Business“ wird verwendet, wenn alle Geschäftsprozesse per Internet zwischen den Geschäftspartnern stattfinden. Ausgenommen hiervon sind Prozesse, die nicht per Datenübermittlung stattfinden können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 unterteilt in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rei Bereich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des Electronic Busines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-2-B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tenabwicklung zwischen Unterneh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-2-C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tenabwicklung zwischen dem eigenen Unternehmen und dem Kun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-2-A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tenabwicklung zwischen dem eigenen Unternehmen und Verwaltungseinrichtungen</a:t>
            </a:r>
            <a:br>
              <a:rPr sz="1400"/>
            </a:b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läuterung: B = Business; C = Consumer; A = Administ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aussetz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Alle Beteiligten müssen über die entsprechenden technischen und softwareseitigen Einrichtungen verfüge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issensbasierte Syste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ssensbasierte Systeme dienen der Auswertung menschlichen Wissens, das in gespeicherter Form bereit steht. Dabei werden Methoden der Künstlichen Intelligienz (KI) verwend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Künstliche Intelligenz beschäftigt sich mit der Umsetzung menschlicher (intelligenter) Verhaltensweisen in Computer-Programme, die diese Verhaltensweisen reproduzieren kö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4360" y="3357720"/>
            <a:ext cx="777240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wichtigsten Anwendungen für den Bereich der Pflege / Medizin si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llbasiertes Schließen (Differential-Diagnosti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ldverarbeitung (Diagnosti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rachverarbeitung (Schreibarbeiten, Gerätesteueru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obotik (O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allbasiertes Schließen: Grundla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ch als „Case Based Reasoning (CBR)“ bezeich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fahren, mit dem Probleme gelöst werden, indem auf Erfahrungswissen zurück gegriffen wi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bei enthält eine Datenbank den sog. „Fallspeicher“ oder „Falldatenbasis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System erfragt vom Nutzer unterschiedliche Variabl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schließend werden die Eingaben mit der Datenbasis verglich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ließlich erhält der Nutzer die „Antwort“. Sie ist das Ergebnis der verglichenen Daten mit der höchsten Übereinstimm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r Erweiterung der Datenbasis werden die Eingaben als neue Lösungsmöglichkeiten in die Datenbank mit aufgenommen (Selbstlerneffekt)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www.20q.net/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e denken sich einen Gegenstand aus, beantworten anschließend 20 Fragen und der Computer errät Ihren Gegensta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3-04-09T20:57:22Z</dcterms:modified>
  <cp:revision>77</cp:revision>
  <dc:subject/>
  <dc:title>PowerPoint Presentation</dc:title>
</cp:coreProperties>
</file>