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-360" y="333000"/>
            <a:ext cx="86756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 flipV="1" rot="16200000">
            <a:off x="4211640" y="2240640"/>
            <a:ext cx="468000" cy="889308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84000" y="6501960"/>
            <a:ext cx="48956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3. Hardware II: Netzwerk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505720" y="0"/>
            <a:ext cx="638280" cy="352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888400" y="333360"/>
            <a:ext cx="255600" cy="6524640"/>
          </a:xfrm>
          <a:prstGeom prst="rect">
            <a:avLst/>
          </a:prstGeom>
          <a:solidFill>
            <a:srgbClr val="000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32880" y="347760"/>
            <a:ext cx="158760" cy="652464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690040" y="254160"/>
            <a:ext cx="50760" cy="618948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-9360" y="0"/>
            <a:ext cx="50760" cy="68850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-558720" y="6443640"/>
            <a:ext cx="1116000" cy="412920"/>
          </a:xfrm>
          <a:prstGeom prst="ellipse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9840" y="6524640"/>
            <a:ext cx="5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22C36-B548-4FCA-9769-4935690FC82C}" type="slidenum">
              <a:rPr b="1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4341600" y="2064960"/>
            <a:ext cx="50760" cy="873432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rot="16200000">
            <a:off x="4317840" y="-4388040"/>
            <a:ext cx="71640" cy="87804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6159600" y="6458040"/>
            <a:ext cx="2665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ndreas Heil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vangelische Fachhochschule Berl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rot="16200000">
            <a:off x="4347360" y="-3439440"/>
            <a:ext cx="17640" cy="8712360"/>
          </a:xfrm>
          <a:prstGeom prst="rect">
            <a:avLst/>
          </a:prstGeom>
          <a:gradFill rotWithShape="0">
            <a:gsLst>
              <a:gs pos="0">
                <a:srgbClr val="d00f04"/>
              </a:gs>
              <a:gs pos="50000">
                <a:srgbClr val="ffffff"/>
              </a:gs>
              <a:gs pos="100000">
                <a:srgbClr val="d00f0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ardware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Netzwer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etztechnologien 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380988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erbindungssteck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er Kupferkab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NC (al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oder RJ-45 (neu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er Glasfa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er Funk (sog. Wireless LA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chtung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unktechnologien sind zur Zeit noch nicht abhörsicher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5148360" y="1052640"/>
            <a:ext cx="3208320" cy="24066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6227640" y="4535640"/>
            <a:ext cx="1150920" cy="11253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3306600" y="3718080"/>
            <a:ext cx="1297080" cy="20779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3191760" y="5900760"/>
            <a:ext cx="152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J-45 Stec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14880" y="3645000"/>
            <a:ext cx="141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NC T-Stü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015600" y="5613480"/>
            <a:ext cx="173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NC Termin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ozu dient ein Rechnernetz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 Rechnernetz dient dem direkten Datenaustausch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wischen zwei oder mehreren Rechner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lle dafür notwendigen Komponenten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Kabel, Netzwerk-Adapter, Programme etc.)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zeichnet man in ihrer Gesamtheit als „Rechnernetz“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unktionen eines Netzwer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facher und schneller Datenaustausch mögl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fach, weil: kein Daten-Austauschmedium notwendig (z.B. Disket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hnell, weil: sehr schnelle Übertragungsrate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 können gemeinsam genutzt werden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Dabei werden die Daten auf einem Rechner gespeichert und von diesem den anderen Rechnern zur Verfügung gestellt.)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eräte können gemeinsam genutzt werden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z.B. Drucker, der von allen Teilnehmern genutzt werden kann)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entrale Software-Nutzung möglich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Auf einem Rechner wird die Software installiert, alle anderen Rechner können diese nutzen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rteil: Einfache Wartung der Softw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chteil: Bei fehlerhafter Software sind alle Rechner betroff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etzwerktopologi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431784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finition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Netzwerktopologie beschreibt den strukturellen Aufbau eines Netzwerkes. Sie beantwortet die Frage,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i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die Rechner miteinander verbunden sind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bindungsarten (siehe Grafik)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llvermaschte Netz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rteil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 auch wenn mehrere Rechner ausfallen, sind die funktionsfähigen untereinander noch erreichba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achteil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 sehr hohe Kosten für die Verkabelung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516640" y="1052640"/>
            <a:ext cx="3016080" cy="4608360"/>
          </a:xfrm>
          <a:prstGeom prst="rect">
            <a:avLst/>
          </a:prstGeom>
          <a:ln w="0">
            <a:noFill/>
          </a:ln>
        </p:spPr>
      </p:pic>
      <p:grpSp>
        <p:nvGrpSpPr>
          <p:cNvPr id="60" name=""/>
          <p:cNvGrpSpPr/>
          <p:nvPr/>
        </p:nvGrpSpPr>
        <p:grpSpPr>
          <a:xfrm>
            <a:off x="6013440" y="5891040"/>
            <a:ext cx="2087640" cy="71640"/>
            <a:chOff x="6013440" y="5891040"/>
            <a:chExt cx="2087640" cy="71640"/>
          </a:xfrm>
        </p:grpSpPr>
        <p:sp>
          <p:nvSpPr>
            <p:cNvPr id="61" name=""/>
            <p:cNvSpPr/>
            <p:nvPr/>
          </p:nvSpPr>
          <p:spPr>
            <a:xfrm>
              <a:off x="6013440" y="5891040"/>
              <a:ext cx="71280" cy="71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661080" y="5891040"/>
              <a:ext cx="71640" cy="71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308720" y="5891040"/>
              <a:ext cx="71640" cy="71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029440" y="5891040"/>
              <a:ext cx="71640" cy="71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038640" y="5929200"/>
              <a:ext cx="201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6229440" y="5962680"/>
            <a:ext cx="165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Lini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sdehnungen von Netzwerk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763128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 unterteilt ein Netzwerk nach seiner Ausdehnung i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AN = Local Area Network oder „lokales Netz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bindung von Rechnern in einem räumlich begrenzten Gebi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Übertragungsrate: 10 MBit/Sek. bis 1 GBit/Se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 = Metropolitan Area Network oder „Stadtnetz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bindung von Rechnern innerhalb einer Stadt oder Großunternehme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Übertragungsrate: 100 MBit/Sek. bis 1 GBit/Sek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AN = Wide Area Network oder „Weitverkehrsnetz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bindung von Rechnern innerhalb eines Landes oder mehreren Länder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Übertragungsrate: 64 KBit/Sek. bis 600 MBit/Sek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AN = Global Area Network oder „globales Netz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bindung von Rechnern weltwe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.B.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erne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militärisches Netzwerk, weltweit agierende Unternehm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etzwerkart: Peer to Pe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763128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lle Rechner sind gleichberechtig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Jeder Rechner kann Dienstleistungen für einen anderen Rechner leisten, z.B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utzung des Druckers eines anderen Rechn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oblem: Die Arbeitsleistung des beanspruchten Rechners vermindert sic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ösung: Einsatz eines Client-Server-Netzwer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763640" y="2852640"/>
            <a:ext cx="540072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etzwerkart: Client-Server(-Prinzip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9185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 „Server“ übernimmt eine oder mehrere Aufgaben für alle „Clients“ im Netzwerk, z.B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i-Server (zur Datenspeicheru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ruck-Server (zur Verwaltung der Druckaufträg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il-Server (zur Verwaltung der E-Mai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ax-Server (zur Verwaltung von Telefax)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 „Client“ nutzt die Arbeitsleistung des Serv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708360" y="3573360"/>
            <a:ext cx="409896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etzwerkart: Strukturiertes Netzwer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9185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rd in größeren Firmen verwendet, um das Netzwerk logisch aufzuteil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bei werden die Mitarbeiter einer Abteilung (bzw. Berufsgruppe) zu einer „Gruppe“ zusammen gefasst, die sich in der Software widerspiegel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rteil: Einer Gruppe können bestimmte Rechte verliehen werden.</a:t>
            </a:r>
            <a:br>
              <a:rPr sz="1600"/>
            </a:b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ispiel:</a:t>
            </a:r>
            <a:br>
              <a:rPr sz="1600"/>
            </a:b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Mitarbeiter der Gruppe „Pflege“ können auf die Dosierung der Medikation eines Patienten zugreifen. Die Gruppe „Pforte“ hat jedoch nur Zugriff auf die Stammdaten des Patient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etztechnologien 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77724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tzwerk-Adapt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ch: Netzwerkkarte, LAN-Adapter oder NIC (network interface ca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Jeder Netzwerk-Adapter besitzt eine eindeutige Adresse, die nicht veränderbar ist. Sie dient der sicheren Identifizierung des Rechners. Man bezeichnet diese Adresse auch als Node-Adress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mittlung Win 95/98: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inipcfg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(Eingabeaufforderu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mittlung Win NT, 2000 und XP: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pconfig /all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(Eingabeaufforderu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gab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eitet die Daten vom Prozessor in das Netzwe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mpfängt Daten von anderen Rechnern aus dem Netzwerk und leitet diese an den Prozessor weit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teilung nach Geschwindigkei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0 MBit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ältere Variante, jedoch noch häufig im Einsatz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00 MBit = sog. Fast Ethernet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neuere Variante, die derzeit bei Neukauf eines Rechners den Standard darstell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000 MBit = GigaBit Ethernet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zur Zeit noch sehr teuer, da nur per Glasfaser-Verbindung realisierba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dreas Heil</cp:lastModifiedBy>
  <dcterms:modified xsi:type="dcterms:W3CDTF">2002-11-18T01:12:16Z</dcterms:modified>
  <cp:revision>71</cp:revision>
  <dc:subject/>
  <dc:title>PowerPoint Presentation</dc:title>
</cp:coreProperties>
</file>