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Hardware II: Netzwer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571E-BE8E-4E21-9650-FB86CDC2550C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rdware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Netzwer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technologien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bindungssteck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Kupferk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NC (a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der RJ-45 (ne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Glasfa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Funk (sog. Wireless LA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chtung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unktechnologien sind zur Zeit noch nicht abhörsich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148360" y="1052640"/>
            <a:ext cx="3208320" cy="2406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227640" y="4535640"/>
            <a:ext cx="1150920" cy="1125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306600" y="3718080"/>
            <a:ext cx="1297080" cy="2077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191760" y="590076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J-45 Stec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14880" y="364500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NC T-Stü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15600" y="5613480"/>
            <a:ext cx="17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NC Termin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ozu dient ein Rechnernetz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Rechnernetz dient dem direkten Datenaustausch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wischen zwei oder mehreren Rechne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dafür notwendigen Komponent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Kabel, Netzwerk-Adapter, Programme etc.)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zeichnet man in ihrer Gesamtheit als „Rechnernetz“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unktionen eines Netzwe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r und schneller Datenaustausch mög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, weil: kein Daten-Austauschmedium notwendig (z.B. Disket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, weil: sehr schnelle Übertragungsrat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gemeinsam genutzt werd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Dabei werden die Daten auf einem Rechner gespeichert und von diesem den anderen Rechnern zur Verfügung gestellt.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räte können gemeinsam genutzt werd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z.B. Drucker, der von allen Teilnehmern genutzt werden kann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ntrale Software-Nutzung möglich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Auf einem Rechner wird die Software installiert, alle anderen Rechner können diese nutzen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: Einfache Wartung der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: Bei fehlerhafter Software sind alle Rechner betroff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topolo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43178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finition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Netzwerktopologie beschreibt den strukturellen Aufbau eines Netzwerkes. Sie beantwortet die Frage,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i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ie Rechner miteinander verbunden sind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sarten (siehe Grafik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llvermaschte Netz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auch wenn mehrere Rechner ausfallen, sind die funktionsfähigen untereinander noch erreichb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ach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sehr hohe Kosten für die Verkabelung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16640" y="1052640"/>
            <a:ext cx="3016080" cy="460836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6013440" y="5891040"/>
            <a:ext cx="2087640" cy="71640"/>
            <a:chOff x="6013440" y="5891040"/>
            <a:chExt cx="2087640" cy="71640"/>
          </a:xfrm>
        </p:grpSpPr>
        <p:sp>
          <p:nvSpPr>
            <p:cNvPr id="61" name=""/>
            <p:cNvSpPr/>
            <p:nvPr/>
          </p:nvSpPr>
          <p:spPr>
            <a:xfrm>
              <a:off x="6013440" y="5891040"/>
              <a:ext cx="7128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61080" y="589104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308720" y="589104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29440" y="589104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38640" y="5929200"/>
              <a:ext cx="20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229440" y="596268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ini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dehnungen von Netzwer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312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unterteilt ein Netzwerk nach seiner Ausdehnung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N = Local Area Network oder „lokales 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in einem räumlich begrenzten Gebi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tragungsrate: 10 MBit/Sek. bis 1 GBit/Se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= Metropolitan Area Network oder „Stadt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innerhalb einer Stadt oder Großunterneh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tragungsrate: 100 MBit/Sek. bis 1 GBit/Sek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N = Wide Area Network oder „Weitverkehrs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innerhalb eines Landes oder mehreren Länd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tragungsrate: 64 KBit/Sek. bis 600 MBit/Sek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AN = Global Area Network oder „globales 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weltw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militärisches Netzwerk, weltweit agierende Unterne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art: Peer to Pe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312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Rechner sind gleichberechti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r Rechner kann Dienstleistungen für einen anderen Rechner leisten, z.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tzung des Druckers eines anderen Rech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blem: Die Arbeitsleistung des beanspruchten Rechners vermindert s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ung: Einsatz eines Client-Server-Netzwe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63640" y="2852640"/>
            <a:ext cx="54007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art: Client-Server(-Prinzi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„Server“ übernimmt eine oder mehrere Aufgaben für alle „Clients“ im Netzwerk, z.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-Server (zur Datenspeich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uck-Server (zur Verwaltung der Druckaufträ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l-Server (zur Verwaltung der E-Mai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x-Server (zur Verwaltung von Telefax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„Client“ nutzt die Arbeitsleistung des Serv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708360" y="3573360"/>
            <a:ext cx="40989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art: Strukturiertes Netzwe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in größeren Firmen verwendet, um das Netzwerk logisch aufzutei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bei werden die Mitarbeiter einer Abteilung (bzw. Berufsgruppe) zu einer „Gruppe“ zusammen gefasst, die sich in der Software widerspiege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: Einer Gruppe können bestimmte Rechte verliehen werden.</a:t>
            </a: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Mitarbeiter der Gruppe „Pflege“ können auf die Dosierung der Medikation eines Patienten zugreifen. Die Gruppe „Pforte“ hat jedoch nur Zugriff auf die Stammdaten des Patien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technologien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-Adap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: Netzwerkkarte, LAN-Adapter oder NIC (network interface ca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r Netzwerk-Adapter besitzt eine eindeutige Adresse, die nicht veränderbar ist. Sie dient der sicheren Identifizierung des Rechners. Man bezeichnet diese Adresse auch als Node-Adres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ittlung Win 95/98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inipcf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Eingabeaufford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ittlung Win NT, 2000 und XP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pconfig /al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Eingabeaufford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tet die Daten vom Prozessor in das Netzwe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mpfängt Daten von anderen Rechnern aus dem Netzwerk und leitet diese an den Prozessor wei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eilung nach Geschwindigke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 MBit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ältere Variante, jedoch noch häufig im Einsat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0 MBit = sog. Fast Ethernet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neuere Variante, die derzeit bei Neukauf eines Rechners den Standard darstel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00 MBit = GigaBit Ethernet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zur Zeit noch sehr teuer, da nur per Glasfaser-Verbindung realisierb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1-18T01:12:16Z</dcterms:modified>
  <cp:revision>71</cp:revision>
  <dc:subject/>
  <dc:title>PowerPoint Presentation</dc:title>
</cp:coreProperties>
</file>