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6. Rechtliche Grundla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04A8-6D40-445F-8F21-175A1B19D62A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7:35:36Z</dcterms:modified>
  <cp:revision>68</cp:revision>
  <dc:subject/>
  <dc:title>PowerPoint Presentation</dc:title>
</cp:coreProperties>
</file>