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0. Software V: Branchensoftware in der Pfle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453EF-D8B0-49CD-99A1-D3BC9215CF23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vfh-berlin.de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blick Pflege-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ftware in der Pflege ist entweder als Einzelapplikation erhältlich, oder in ein Informationssystem integriert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ilweise lässt sich keine klare Abgrenzung zwischen branchenneutralen Software-Produkten und branchenspezifischen Software-Produkten ziehen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ftware zur Dienstplangestalt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iele branchenspezifischer Pflege-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meiden einer Mehrfacherfassung von Daten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ndschriftliche Erfassung der Arbeitszeiten auf dem Dienstplan; anschließend nochmalige Erfassung in der Lohn-Software.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Qualitätsnachweis in schriftlicher, digitaler Form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tomatisierung von Arbeitsabläufen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tomatische Berücksichtigung von Urlaubsregelungen, Dienstzeiten etc. in der Dienstplanung.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besserung von Kontrollmechanismen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eldung, falls zu wenige Mitarbeiter für einen Dienst geplant sind.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facherer Datenaustausch mit anderen Einrichtungen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hrfachnutzung der Daten in Bezug auf Auswertungsmöglichkeiten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chtung: An dieser Stelle sind die besonderen Datenschutz-Bestimmungen für das Gesundheitswesen zu beachten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satzgebiete branchenspezifischer Pflege-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38098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fleg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flegeanamn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flegeplan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flegedoku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Qualitäts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inanzwese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istungsabrechn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ntrol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7960" y="1125000"/>
            <a:ext cx="38098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ersonalmanagemen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nstplan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ourenplan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h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rn-Software (zu Ausbildungszweck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orschu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tenerheb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tenauswert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stenkalkulation der 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die Bewertung der Kosten fließen ei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sten der Vorberei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eitaufwand der Plan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wahl an Demoversio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eitaufwand zum Testen der Demoversio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ittlung fehlender Funktionen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sten der Anschaff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ftware (Anzahl der Lizenz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ardware (eventl. Server notwendig etc.)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ufende Kosten (Wartungsvertrag)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sten einer Erweiterung (fertige Module oder individuelle Programmierung?)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ulungskosten für Mitarbei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ktuelle Proble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riterium: Software-Qualitä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 kann die Hersteller von Pflege-Software-Produkten zur Zeit in drei Kategorien unterteilen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ersteller, die selbst vorher (oder immer noch) in der Pflege gearbeitet haben und das Produkt aufgrund mangelnder Alternativen selbst programmiert haben.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tei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Häufig praxisnahe Ideen + Kostengünstig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achtei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Häufig Programmfehler (unausgereifte Software)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ersteller, die die Marktnische erkannt haben, jedoch über kein oder wenig Hintergrundwissen im Gesundheitssektor verfügen.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tei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Unabhängige Programmentwicklung (keine Unternehmensspezifische Ausrichtung der Software)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achtei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Eventl. fehlendes fachliches Verständnis für die Bedürfnisse des Kunden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ößere Software-Unternehmen mit einem Team aus Spezialisten verschiedener Fachrichtungen.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tei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Stabile und ausgereifte Software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achtei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Produkt meist sehr teu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ktuelle Proble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ergleichbarkeit / Auswahl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zeit mangelt es an Markttransparenz. Jeder Kunde ist entweder auf Empfehlungen angewiesen oder muss sehr aufwendig die einzelnen Händler ausfindig machen und Produktdemos anfordern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sher mangelt es noch an Bewertungs-Checklisten, die einen Vergleich durch den Kunden ermöglichen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 Checkliste, anhand derer die Funktionen einer Dienstplanungs-Software bewertet werden können (worauf muss ich achten?)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d00f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d00f04"/>
                </a:solidFill>
                <a:latin typeface="Arial"/>
              </a:rPr>
              <a:t>Acht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Artikel in Fachzeitschriften sind in den meisten Fällen durch den Hersteller selbst verfasst. Es handelt sich also nicht um Testberichte sondern um Eigenwerbung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aktische Üb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492280"/>
            <a:ext cx="77724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fgaben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tieren Sie Ihr Suchwort bzw. die Suchwortkombination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ufen Sie die Seiten der Hersteller auf und notieren Sie Bewertungskriterien mit deren Hilfe Sie dessen Software (Pflegeplanungs- bzw. Dienstplan-Software) mit der anderer Hersteller vergleichen können.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otieren Sie dabei die Internet-Adresse des Herstellers.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tieren Sie eventuelle Besonderheiten, die Ihnen im Rahmen des Suchvorgangs begegnen.</a:t>
            </a:r>
            <a:br>
              <a:rPr sz="1600"/>
            </a:br>
            <a:br>
              <a:rPr sz="1600"/>
            </a:b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Hinweis: Die Ergebnisse der Recherche werden in einem gesonderten Dokument zusammen gefasst und unter 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www.evfh-berlin.de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 bereit gestell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1125360"/>
            <a:ext cx="7772400" cy="49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möchten in Ihrem Pflegeheim eine Dienstplanungs-Software (Gruppe 1) bzw. eine Pflegeplanungs- und Pflegedokumentations-Software einführen. Um einen ersten Überblick zu erhalten, suchen Sie im Internet nach Informationen, die Ihnen im Rahmen der Entscheidungsfindung weiterhelf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3-04-16T14:36:06Z</dcterms:modified>
  <cp:revision>80</cp:revision>
  <dc:subject/>
  <dc:title>PowerPoint Presentation</dc:title>
</cp:coreProperties>
</file>