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13.png" ContentType="image/png"/>
  <Override PartName="/ppt/media/image6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28.png" ContentType="image/png"/>
  <Override PartName="/ppt/media/image5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8988425" cy="12909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Hardware I: Rechnertypen und -komponen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40D7-84B5-4992-8BAD-0DD7E101B0D2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-online.de/" TargetMode="External"/><Relationship Id="rId2" Type="http://schemas.openxmlformats.org/officeDocument/2006/relationships/hyperlink" Target="http://www.e-online.de/" TargetMode="External"/><Relationship Id="rId3" Type="http://schemas.openxmlformats.org/officeDocument/2006/relationships/hyperlink" Target="http://www.e-online.de/" TargetMode="External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bios-info.de/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glossar.de/" TargetMode="External"/><Relationship Id="rId2" Type="http://schemas.openxmlformats.org/officeDocument/2006/relationships/hyperlink" Target="http://glossary.ges-training.de/glossar/" TargetMode="External"/><Relationship Id="rId3" Type="http://schemas.openxmlformats.org/officeDocument/2006/relationships/hyperlink" Target="http://www.computer-woerterbuch.de/" TargetMode="External"/><Relationship Id="rId4" Type="http://schemas.openxmlformats.org/officeDocument/2006/relationships/hyperlink" Target="http://www.computer-woerterbuch.de/" TargetMode="External"/><Relationship Id="rId5" Type="http://schemas.openxmlformats.org/officeDocument/2006/relationships/hyperlink" Target="http://www.computer-woerterbuch.de/" TargetMode="External"/><Relationship Id="rId6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ner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416320" y="1742400"/>
            <a:ext cx="4311360" cy="3733920"/>
            <a:chOff x="2416320" y="1742400"/>
            <a:chExt cx="4311360" cy="3733920"/>
          </a:xfrm>
        </p:grpSpPr>
        <p:sp>
          <p:nvSpPr>
            <p:cNvPr id="53" name="_s5132"/>
            <p:cNvSpPr/>
            <p:nvPr/>
          </p:nvSpPr>
          <p:spPr>
            <a:xfrm flipV="1">
              <a:off x="2416320" y="4729680"/>
              <a:ext cx="4311360" cy="746280"/>
            </a:xfrm>
            <a:custGeom>
              <a:avLst/>
              <a:gdLst>
                <a:gd name="textAreaLeft" fmla="*/ 588600 w 4311360"/>
                <a:gd name="textAreaRight" fmla="*/ 3722760 w 4311360"/>
                <a:gd name="textAreaTop" fmla="*/ 101880 h 746280"/>
                <a:gd name="textAreaBottom" fmla="*/ 644400 h 74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ersonalcomputer (P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_s5135"/>
            <p:cNvSpPr/>
            <p:nvPr/>
          </p:nvSpPr>
          <p:spPr>
            <a:xfrm flipV="1">
              <a:off x="2847960" y="3981960"/>
              <a:ext cx="3448080" cy="747720"/>
            </a:xfrm>
            <a:custGeom>
              <a:avLst/>
              <a:gdLst>
                <a:gd name="textAreaLeft" fmla="*/ 518760 w 3448080"/>
                <a:gd name="textAreaRight" fmla="*/ 2929320 w 3448080"/>
                <a:gd name="textAreaTop" fmla="*/ 112320 h 747720"/>
                <a:gd name="textAreaBottom" fmla="*/ 635400 h 74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Workst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_s5131"/>
            <p:cNvSpPr/>
            <p:nvPr/>
          </p:nvSpPr>
          <p:spPr>
            <a:xfrm flipV="1">
              <a:off x="3278160" y="3236760"/>
              <a:ext cx="2587680" cy="745920"/>
            </a:xfrm>
            <a:custGeom>
              <a:avLst/>
              <a:gdLst>
                <a:gd name="textAreaLeft" fmla="*/ 449280 w 2587680"/>
                <a:gd name="textAreaRight" fmla="*/ 2138400 w 2587680"/>
                <a:gd name="textAreaTop" fmla="*/ 129240 h 745920"/>
                <a:gd name="textAreaBottom" fmla="*/ 616680 h 74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tand-Alone-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_s5134"/>
            <p:cNvSpPr/>
            <p:nvPr/>
          </p:nvSpPr>
          <p:spPr>
            <a:xfrm flipV="1">
              <a:off x="3710160" y="2488320"/>
              <a:ext cx="1723680" cy="747720"/>
            </a:xfrm>
            <a:custGeom>
              <a:avLst/>
              <a:gdLst>
                <a:gd name="textAreaLeft" fmla="*/ 379080 w 1723680"/>
                <a:gd name="textAreaRight" fmla="*/ 1344600 w 1723680"/>
                <a:gd name="textAreaTop" fmla="*/ 164160 h 747720"/>
                <a:gd name="textAreaBottom" fmla="*/ 583560 h 74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Mainframes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0,5 bis 15 Mio. €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_s5130"/>
            <p:cNvSpPr/>
            <p:nvPr/>
          </p:nvSpPr>
          <p:spPr>
            <a:xfrm flipV="1">
              <a:off x="4140360" y="1742040"/>
              <a:ext cx="863280" cy="746280"/>
            </a:xfrm>
            <a:custGeom>
              <a:avLst/>
              <a:gdLst>
                <a:gd name="textAreaLeft" fmla="*/ 309600 w 863280"/>
                <a:gd name="textAreaRight" fmla="*/ 553680 w 863280"/>
                <a:gd name="textAreaTop" fmla="*/ 267840 h 746280"/>
                <a:gd name="textAreaBottom" fmla="*/ 478440 h 74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upercompu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20 bis 30 Mio. €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Übers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ackb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table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rcode-Leseger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ührungsempfindliche Geräte (Touchscreen, Mousepad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ip-Karten-Leseger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krofon (Spracheingab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Tastat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rekte Zeicheneing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ndard-Tastat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en mit Zusatzfunkt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belverbindung / Fu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inigung der Tastat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ag der Ta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, dass die Tastatur Ihr ständiges Arbeitsmittel zur Dateneingabe ist. Eine gute Tastatur rechtfertigt auch eine entsprechende Mehrausgab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herstellerspezifische Tasten! Falls doch: Einführung der Tastatur im gesamten Unter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Funktionen der „Standard-Sondertasten“ kennen (F-Tasten, Esc-Taste, Strg-Taste, Alt-Taste, Windows-Taste, Druck-Tas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076720" y="1484280"/>
            <a:ext cx="23814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Ma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ung des Mauszei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ndard-M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wei Ta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Scroll-R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belverbindung / Fu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ini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ks- / Rechtshä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tische Maus ist weniger störanfäll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maus benötigt ständig Batter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satztasten benötigen auch zusätzliche Treib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2077920" cy="24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Scan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lesen bestehender 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allel / USB-Sc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SI-Scanner (schne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zahl der Scan-Vorgänge pro T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 der Vorlage (z.B. DIN A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gute Dokumentenscanner zur Zeit noch sehr teu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: Zusatzkosten durch gute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bearb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erkennung (OCR = Optical Character Recogni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227640" y="4653000"/>
            <a:ext cx="2210040" cy="1628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64000" y="1484280"/>
            <a:ext cx="285768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Entscheidungshilf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gemeine 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affen Sie Standard-Gerä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Geräte mit Zusatzfunktionen. (Bedenke: Lernaufwa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legungen vor dem K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das Eingabegerät wirklich benötig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pricht die Geräteleistung den Anforderungen (Bsp.: Einscannen von Dokumenten sehr zeitaufwändig. Profigeräte hingegen sehr teuer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notwendige Schnittstelle zum Anschluss des Gerätes vorhan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werten Sie, wie viele Mitarbeiter das Zehn-Finger-System beherrsch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ntscheidend für den „Zeitfaktor Dateneingabe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entuell Schulung in Betracht ziehen. (große Zeitersparn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Übers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schi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nwand-Projektoren (Beam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utsprec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krofil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859280" y="981000"/>
            <a:ext cx="2406600" cy="24066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Bildschir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78469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öhrenmonitor (Bildbe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achbildschirm (Textver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destgröße 17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1“-Monitor für Bildbearb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achbildschirm 15“ ist gleich Röhre 17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wiederholfrequenz (min. 70 Hert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lösung (min. 1024 * 768 Pix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ter Kontrast &amp; Helligk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CO'99 Prüfsiegel (Ergonom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is (Flachbildschirme sind teu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qualitativ hochwertiger Bildschirm lohnt sich bei langen Bildschirm-Arbeitszeiten in jedem F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gleichen Sie die Monitore nebeneinander. (Sichtkontrol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achbildschirme sind teurer, jedoch absolut flimmerfrei. Deshalb sehr gute Eignung für Textverarbei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372360" y="2349360"/>
            <a:ext cx="2033280" cy="2376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72000" y="1557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1844640"/>
            <a:ext cx="201636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78469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ser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intenstrahl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del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zialgerä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o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rmo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ypenrad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stScript-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Drucker: Laser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schneller Druck (bis 30 Seiten pro Min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he Druck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edrige Druckkosten (5 C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rbdruck sehr teu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her Anschaffungspreis (Gerä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serdrucker sind der Standard im betrieblichen Dru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ngebiet: Text- und Formulardru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nahme: Farbdruck (in der Regel reicht ein Tintenstrahldruck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12000" y="1341360"/>
            <a:ext cx="216036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Drucker: Tintenstrahl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 Druckgeschwindigkeit (10 Seiten pro Min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he Druck-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ünstiger Farbdruck (kleine Auflag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 Druckkosten (10 Cent Schwarz-Wei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r Anschaffungspreis (Gerä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 billiger der Drucker, desto teurer das Verbrauchsmaterial (Tint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gnen sich für mittleren Druckaufw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gute Eignung für gelegentliche Farbdruck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te Geräte ermöglichen sehr guten Fotodru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372360" y="1052640"/>
            <a:ext cx="20937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blick - Komponen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43280" y="1484280"/>
            <a:ext cx="3313080" cy="468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hä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1916280"/>
            <a:ext cx="194328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ntral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Motherboar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83000" y="3933720"/>
            <a:ext cx="194292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spei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1440" y="1916280"/>
            <a:ext cx="194292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rä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ein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43640" y="1916280"/>
            <a:ext cx="194328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rä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aus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242100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08720" y="242100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49600" y="2997360"/>
            <a:ext cx="0" cy="86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Drucker: Nadel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mulardruck mit Durchschlägen mögl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ngsame Druckgeschwindigkei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5 Seiten pro Min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niedrige Druckkost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1 Cent pro Sei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echte Druck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Farbdruck mög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r Anschaffungspreis (Gerä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r noch sinnvoll, wen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chschläge erwünsch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alität nicht von Bedeutung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940360" y="1413000"/>
            <a:ext cx="2279880" cy="20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Lautsprec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no / Ster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bwover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rround-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en akustische Ausga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fordern eigenen Stellpla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Zukunft von Bedeutung, da akustische Rückmeldung und Spracheingabe und Sprachausgabe zunehm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rround-Sound nicht notwe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entl. Monitor mit integriertem Lautsprecher benutz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443640" y="4797360"/>
            <a:ext cx="1587600" cy="1295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88000" y="1268280"/>
            <a:ext cx="33336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Entscheidungshil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gemeine 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affen Sie Standard-Gerä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Geräte mit Zusatzfunktionen. (Bedenke: Lernaufwa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legungen vor dem K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das Ausgabegerät wirklich benötig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nn das Gerät von mehreren Rechnern gleichzeitig benutzt werden? (z.B. Druck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nd dafür Zusatzgeräte notwendig (z.B. Printserv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soll das Gerät im Standard-Betrieb lei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soll das Gerät in Ausnahmefällen leisten? (z.B. Farbdruc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ibt es arbeitsergonomische Vorgaben (die verbindlich sind)?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z.B. Bildschirmarbeitsplatzverordn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„Mainboard“ oder „Hauptplatine“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chtigste Bestand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ipsa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tte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-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ckplätze (Speicher, Karte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s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u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s im Internet:</a:t>
            </a:r>
            <a:br>
              <a:rPr sz="1600"/>
            </a:b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e-online.de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796000" y="18446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4834080" y="2030400"/>
            <a:ext cx="343692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Prozess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gentlich: Mikro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CPU bezeich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PU = Central Processing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rsteller AMD und In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teht 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we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ordinierung der Befeh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chenwe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hrt die Berechnungen du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-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leitkomma-Rechn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tge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itiiert die einzelnen Stromimpu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 MHz entspricht 1 Mio. Takte pro Mi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076720" y="1341360"/>
            <a:ext cx="317520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Chipsat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t den Datenfluss zwisch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beitsspeicher (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n (EIDE, AGP, US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ssystem (PCI, I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Der Chipsatz benötigt einen eigenen Treibe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M = Random Access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 genannter „flüchtiger Speicher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.h. Daten werden bei Stromunterbrechung gelös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Speichert alle Daten während des Rechnerbetrieb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: Sehr schneller Datenzugrif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ckplätze werden als SIMM-Module bezeichne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Single In-line Memory Modu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 ist abhängig von der verwendeten Software. Für den Arbeitsplatzrechner in der Pflege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d. 128 MB 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x. 512 MB RAM sinnv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 bei Serversyst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835280" y="479736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859280" y="3854520"/>
            <a:ext cx="3095640" cy="2166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075280" y="3710160"/>
            <a:ext cx="1687320" cy="736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BI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 = Basic Input Outpu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auch als BIOS-ROM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OM = Read Only Memory (nicht flüchtiger Speich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.h. Daten bleiben auch erhalten, wenn der Rechner vom Stromnetz getrenn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onderheit des BIOS-RO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einstellungen bleiben immer erhal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stellungen des Benutzers bleiben nur erhalten, solange die Batterie des Motherboards funktionstüchtig is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 stellt den hardwareseitigen Teil des Betriebssystems d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alle hardwareseitigen Einstellungen, z.B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stplatte (Anzahl der Spuren, Sektore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ootreihenfolge (zuerst von Diskette oder Festplat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Informationen zu Einstellungen unter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bios-info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Power-on-Self-Test (POS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 wird angesprochen und dessen Befehle abgearbei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lauf des POST-Vorgangs (Was wird geprüft?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zessor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s-System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uhr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karte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beitsspeicher (RAM)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 angeschloss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oot-Laufwerk wird gesucht –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ue Hardware wird erkan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mponenten mit eigenem BIOS werden erkannt und geprüft (SCSI, Plug &amp; Play-Komponen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 des softwareseitigen Betriebssystems (vom Bootlaufwer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Bus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die Weiterleitung der Daten zwischen den einzelnen Komponen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eilung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u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ansportiert Daten zwischen Prozessor und Hauptspeic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ressbu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st die entsprechende Adresse z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bu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t ob Daten gelesen oder geschrieb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 von Bussystemen (siehe auch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 action="ppaction://hlinksldjump"/>
              </a:rPr>
              <a:t>Steckplätz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G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Deskto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beitsplatz eines Mitarbei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nitor kann auf dem Rechner platzier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nung: Arbeitsplatz mit häufigem Zugriff auf Diskettenlaufwerk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e nach Hersteller wenig bis keine Erweiter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wierigerer Austausch von Komponenten (z.B. Festplat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 der Anschaffung sollte der benötigte Stellplatz bedacht werden. Voraussetzung ist ein großflächiger Bürotis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724360" y="4508640"/>
            <a:ext cx="2533680" cy="1428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H="1">
            <a:off x="7885080" y="4508640"/>
            <a:ext cx="21600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Datenspeich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nstandard: E-IDE = Enhanced Integrated Device 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uss für Festplatten, CD-ROM- und DVD-Laufwer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übertragungsverfahren UDM = Ultra Direct Memory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die direkte Datenübertragung zwischen Festplatte und Arbeitsspeicher unter Umgehung der CP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DMA 66, 100, 133 (höherer Wert = größerer Datendurchsat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drehungen 5.400 oder 7.200 pro Mi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fall SCS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SI = Small Computer System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chleistungsanschluss fü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e Datenübertra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rminierung erforderli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fü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stpla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788000" y="3716280"/>
            <a:ext cx="3436920" cy="2406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686640" y="3643200"/>
            <a:ext cx="1081080" cy="936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Steckplät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G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GP = Accelerated Graphics 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rt für Grafikka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CI = Peripheral Component Interconn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2-Bit 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ug &amp;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Netzwerk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 = Industry Standard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8 bis 16-Bit 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Plug &amp;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Netzwerk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376960" y="1052640"/>
            <a:ext cx="32335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Steckplätze &gt; Grafikkar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t der grafischen Ausgabe der Daten auf dem Bildschi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rte nutzt den AGP-Steckplat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seltenen Fällen auch Karten für PCI-Steckplat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g. Dual-Head-Karten zum Betrieb von zwei Monito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te Karte nur für Bildbearbeitung oder Spiele notwendig. Ansonsten reicht eine Standard-Karte a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ndards nach Auflös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40 * 480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V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800 * 600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24 * 768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280 * 1024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600 * 1200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048 * 1536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076720" y="2708280"/>
            <a:ext cx="3240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Steckplätze &gt; Weitere Kar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-Karten sind veraltet und können in neuen Rechnern nicht mehr verwend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zeitiger Standard: PCI-Kar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ungs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ndkarte: ermöglicht Ein- und Ausgabe von Audiosigna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karte: ermöglicht die Verbindung mehrerer lokaler Rech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rten zur Verbindung mit dem Intern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DN-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SL-Adapter (enthält Modem und Netzwerkkar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sätzliche Schnittstell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USB-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r Parallel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SI-Schnitts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ID-Contro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nittste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rallele-Schnittstell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äte wie, Drucker, Scanner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och häufig im Einsa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rielle-Schnittstelle (12, 1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altete Schnittst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S/2-Schnittstelle (2 und 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us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statur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ideo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nitor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dio-Anschlüsse: Eingang (6), Ausgang (7), Mikrofon (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SB-Anschluss = Universal Serial Bus (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s zu 127 Gerä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iversell einsetzbar (Maus, Drucker, Scanner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tzwerkanschluss (4) mit Kontrollleuchte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rDA-Anschluss = Infrared Device Adapter = Infrarot-Schnittstelle (meist Lapto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irewire-Schnittst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Zeit selten verwendet, jedoch immer häufiger im Rechner enthal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Datenübertragungs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SI-Anschluss (bis zu 15 Gerä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356000" y="620640"/>
            <a:ext cx="4608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 Speichermedien versteht man im weiteren Sinne alle Hardware-Komponenten, die der Aufbewahrung von Daten dienen (z.B. ROM, RAM, Diskette, Festplatte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Alltag (sprich: im engeren Sinne) bezeichnet man mit dem Begriff Speichermedien alle Komponenten, die der nicht flüchtigen Datenspeicherung dienen und eine Datenspeicherung durch den Nutzer zulas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go: Man meint damit nicht ROM und RA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Speichermedien bezeichnet man auch als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xterne Speich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tho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gnetspeicher (Diskette, ZIP-Diskette, Festplatte, Magnetband, Magnetkar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tische Speicher (CD-ROM, DVD-R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üher: Lochkar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nangab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1 K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 Kilobyte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24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1 M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 Megabyte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24 K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48.576 By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1 G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 Gigabyte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24 M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073.741.824 By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 TB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1 Terabyte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1.024 GB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1.099.511.627.776 By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- Disket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öße versus Speicherkapazitä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½ Zoll = 1,44 MB oder 720 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¼ Zoll = 1,2 MB oder 360 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 Zoll = 180 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relativ) preisw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reibschutz manuell aktivierb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er Datenaustausch, da praktisch jeder Rechner ein Diskettenlaufwerk besitz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speicherte Daten sind „handhabbar“ und damit leichter zu „begreifen“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zu beschädi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r Nutzen bei großen Dateien (z.B. Bil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meiden Sie Kontakt zu Magnetfeldern (z.B. Lautsprech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utz vor extremer Kälte und Wärme (z.B. Au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utz vor Staub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gnetscheibe nicht berühre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788000" y="1197000"/>
            <a:ext cx="1333440" cy="1419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020000" y="3573360"/>
            <a:ext cx="142236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Festplatte E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ch als Harddisk (aus dem englischen) bezeich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eicherkapazitä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ann stark vari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Zeit zwischen 20 MB und 120 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preisw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oße Speicherkapazitä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ange Lebensda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 großen Datenmengen, Datenaustausch nur per Netzwerk mög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chädigung der Festplatte führt zum totalen Datenverlu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chselfestplatt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st keine Festplatte im eigentlichen Sin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ielmehr kann die Festplatte in einem austauschbaren Rahmen eingebau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mit können mehrere Festplatten zur Datensicherung verwende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: Die Festplatte ist somit mobil und kann an einem sicheren Ort aufbewahr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Festplatte E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68360" y="961920"/>
            <a:ext cx="8136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Festplatte SCS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SI = Small Computer System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SI-Festplatten unterscheiden sich äußerlich durch eine andere Steckverbind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 Meist nur im Server-Betr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onderhe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letzte SCSI-Gerät muss „terminiert“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erbei handelt es sich um einen Aufsatz, der den Bus abschließ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auf eine Terminierung verzichtet, kommt es zum Datenverlust bzw. das Gerät funktioniert nich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schneller Festplatten-Zugri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 (im Vergleich mit EIDE-Festplat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duzierte Speicherkapazität im Vergleich zu EIDE-Festplat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Mini T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beitsplatz eines Mitarbei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chner kann Platz sparend unter dem Tisch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ute Möglichkeiten zur Erweiter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ötigt eigenen Stellplat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fahr von Störungen durch Fußtrit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Zeit am häufigsten gekaufter Gehäusety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4437000"/>
            <a:ext cx="2533680" cy="1428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flipH="1">
            <a:off x="6877080" y="3716280"/>
            <a:ext cx="288720" cy="1009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ZIP-Laufwe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Iome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s handelt sich um eine Art „Diskette“, jedoch mit erweiterter Speicherkapazitä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s zu 750 MB Speicherkapazitä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fach zu transport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chere Datenspeicherung (im Vergleich zu Disket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P-Laufwerk zum Lesen des Mediums erforder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m Vergleich zu Festplatten recht te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CD-Laufwer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speicherung auf CD‘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 = Compact D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eidung nach Art des Laufwerk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Laufwerke, die nur lesen kön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Laufwerke, die lesen und schreiben können (sog. CD-Bren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eidung nach Art des Medium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 = CD, die nur gelesen werden k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R = CD, die einmal beschrieben werden k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RW = CD, die mehrfach beschrieben und gelöscht werden k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preisgünstiges Speichermedium (50 CD-R = 17 Eur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eichert relativ große Datenmengen (600 bis 700 M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Brenner erforderlich (ca. 100 Eur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m Preis-Leistungs-Verhältnis (meist) das beste Speichermedium zur Datensicher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- Entscheidungshilf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wichtig ist die Datensicheru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edrige Priorität: private 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he Priorität: berufsbezogene 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he Priorität: Unternehmens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häufig müssen Daten gesichert wer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sicher ist das Speichermediu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edrig: Disk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ch: Festpla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ch: mehrere Kopien im Bankf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teuer ist das Speichermediu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affungskosten (z.B. Festplatte, CD-RW Laufwerk, Bandlaufwerk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rauchsmaterialien (z.B. Disketten, CD-ROMs, Bänd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brechungsfreie Stromversorg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SV = Unterbrechungsfreie Stromversor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genständiges Gerät, dass die Stromversorgung des Rechners während eines Stromausfalls gewährleis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i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handelt sich um einen Akkumulator, der die 220 Volt Versorgung sicherste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tromversorgung bei totalem Stromausfall ist in der Regel bis zu 30 Minuten sicher geste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fline USV: Rechner wird nur bei Stromausfall von der USV versor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nline USV: Rechner wird ständig von der USV versor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spannungen werden geglättet (nur offline-US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Stromausfall führt nicht zu Datenverlu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sätzliche Kosten für die Anschaffung des Gerä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bedingt auf die Leistung des Gerätes (Watt) achten. Dementsprechend viele (oder wenige) Verbraucher können angeschloss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 1 v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ätzlich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das teuerste Produkt ist auch das beste Produk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ufen Sie – wenn möglich – den selben Computer mehrfach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Enormes Einsparpotenzial von Wartungsarbei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ieren Sie sich über neue Technolog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klärungen zu Abkürzungen im Hardware-Sektor finden sich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glossar.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auch als Download verfügb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glossary.ges-training.de/glossar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www.computer-woerterbuch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stungssteigerung mit Einbuß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: Je größer die Leistung, desto eher müssen die Rahmenbedingungen beach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 „leistungsstarker Prozessor“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erer Zugriff auf Da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er: im Betrieb lauter, da größerer Lüfter eingesetzt werden mu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ternative: teures Wasserkühlungs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 2 v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mputer-Neukauf für den Betrieb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vorzugen Sie Fertig-Systeme eines bekannten Computer-Herstellers (keinen Supermarkt-PC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 Grund: Je häufiger das System verkauft wird, desto sicherer kann man sein, dass die Komponenten gut aufeinander abgestimm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. Grund: Supermarkt-PCs sollen möglichst viele verschiedene Möglichkeiten bieten (sprich: für jeden etwas dabei). Folge: Die Anzahl der Störfaktoren erhöht sich und damit die Fehleranfällig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„selbst gebastelte“ Modelle eines kleinen Händl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: Praktisch tägliche Änderung der Komponenten. Folge: Der Händler kann nicht abschätzen, ob die Komponenten tatsächlich fehlerfrei miteinander arb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Funk-Komponenten (Tastatur, Maus, Netzwerkkarte), da zur Zeit keine Abhörsicherheit gewährleistet werd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 3 v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nittstellen-Analyse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legen Sie vor dem Kauf, welche Schnittstellen benötig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, das in der Regel (nur) 5 PCI-Steckplätze zur Verfügung st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, das z.B. hochwertige Grafikkarten einen freien Steckplatz zusätzlich benötigen, um Überhitzung zu vermei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n-board-Schnittstellen schaffen freie PCI-Steckplätz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 Problem: Ist die Komponente defekt, funktioniert u.U. das gesamte Motherboard nicht meh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. Problem: Die Beschaffung geeigneter Treiber kann u.U. große Schwierigkeiten ber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. Problem: On-board-Schnittstellen können nicht ausgebaut werden. Achten Sie daher auf die Möglichkeit, das Gerät im BIOS deaktivieren zu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Big T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beitsplatz mit vielen Zusatzgerä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oßzügige Erweiterungsmöglichkei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gute Lüftungsverhältnisse (Folge: verminderter Wärmesta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ist zu groß für Standard-Schranksysteme (Folge: Rechner muss frei steh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uer in der Anschaff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Platzangebot im Gehäuse wird meist nicht ausgenutzt. Die Anschaffung ist daher in vielen Fällen überflüssi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435640" y="4508640"/>
            <a:ext cx="2533680" cy="1428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V="1">
            <a:off x="4427640" y="5157720"/>
            <a:ext cx="100800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Server Gehä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leinere Unternehmensserv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robuste Konstruk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gute Lüft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r sinnvoll, wenn es sich tatsächlich um einen Server hande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spricht in der Größe dem eines Big Tow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588000" y="2492280"/>
            <a:ext cx="1791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- Ra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andardgröße: 19 Zo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nehmensserver, Netzwerk-Vertei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oßzügige Erweiter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häuseschrank ist gleichzeitig „Klimakammer“. Daher hohe Gerätesicherhe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er Ein- und Ausbau von Komponen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r Platzverbrau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andard für größere Netzwerk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724360" y="2997360"/>
            <a:ext cx="25052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Tragbare Compu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llwertige Rechner: Laptop, Not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chner mit Notizfunktion: Handheld, Orga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biler Arbeitsplat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zu transportier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äsentationen vor Ort möglich (z.B. mit Powerpoin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 (interne) Erweiter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gleichsweise schlechtere Geräteausstattung (z.B. Bildschirm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leichte Möglichkeit eines Diebstahls (insbesondere der Daten!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r sinnvoll, wenn tatsächlich ein mobiles Gerät benötigt wi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bedingt den Funktionsumfang bewerte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724360" y="1197000"/>
            <a:ext cx="25401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- Entscheidungshilf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häuse enthält Netztei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räuschpegel des Lüfters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reichende Ausgangsleistung (300 bis 350 Wat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räuschdämmung (Dämm-Mat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cht zu öffnen (möglichst nicht verschraub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bile Konstruktion (lose Gehäuseteile könnten schnarr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rbe (auffällig oder dezent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1-17T17:03:50Z</dcterms:modified>
  <cp:revision>139</cp:revision>
  <dc:subject/>
  <dc:title>PowerPoint Presentation</dc:title>
</cp:coreProperties>
</file>