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-360" y="333000"/>
            <a:ext cx="86756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 flipV="1" rot="16200000">
            <a:off x="4211640" y="2240640"/>
            <a:ext cx="468000" cy="889308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84000" y="6501960"/>
            <a:ext cx="48956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6. Software III: Internet-Softw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505720" y="0"/>
            <a:ext cx="638280" cy="352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888400" y="333360"/>
            <a:ext cx="255600" cy="6524640"/>
          </a:xfrm>
          <a:prstGeom prst="rect">
            <a:avLst/>
          </a:prstGeom>
          <a:solidFill>
            <a:srgbClr val="000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32880" y="347760"/>
            <a:ext cx="158760" cy="652464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690040" y="254160"/>
            <a:ext cx="50760" cy="618948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-9360" y="0"/>
            <a:ext cx="50760" cy="68850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-558720" y="6443640"/>
            <a:ext cx="1116000" cy="412920"/>
          </a:xfrm>
          <a:prstGeom prst="ellipse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9840" y="6524640"/>
            <a:ext cx="5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93109-6D8B-412F-A0EF-5841D1AF329D}" type="slidenum">
              <a:rPr b="1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4341600" y="2064960"/>
            <a:ext cx="50760" cy="873432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rot="16200000">
            <a:off x="4317840" y="-4388040"/>
            <a:ext cx="71640" cy="87804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6159600" y="6458040"/>
            <a:ext cx="2665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ndreas Heil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vangelische Fachhochschule Berl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rot="16200000">
            <a:off x="4347360" y="-3439440"/>
            <a:ext cx="17640" cy="8712360"/>
          </a:xfrm>
          <a:prstGeom prst="rect">
            <a:avLst/>
          </a:prstGeom>
          <a:gradFill rotWithShape="0">
            <a:gsLst>
              <a:gs pos="0">
                <a:srgbClr val="d00f04"/>
              </a:gs>
              <a:gs pos="50000">
                <a:srgbClr val="ffffff"/>
              </a:gs>
              <a:gs pos="100000">
                <a:srgbClr val="d00f0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vfh-berlin.de/" TargetMode="External"/><Relationship Id="rId2" Type="http://schemas.openxmlformats.org/officeDocument/2006/relationships/hyperlink" Target="mailto:info@evfh-berlin.de" TargetMode="External"/><Relationship Id="rId3" Type="http://schemas.openxmlformats.org/officeDocument/2006/relationships/hyperlink" Target="ftp://ftp.microsoft.de/" TargetMode="External"/><Relationship Id="rId4" Type="http://schemas.openxmlformats.org/officeDocument/2006/relationships/hyperlink" Target="news:de.sci.medizin.pflege" TargetMode="Externa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news.cis.dfn.de/" TargetMode="External"/><Relationship Id="rId2" Type="http://schemas.openxmlformats.org/officeDocument/2006/relationships/hyperlink" Target="http://www.google.de/" TargetMode="External"/><Relationship Id="rId3" Type="http://schemas.openxmlformats.org/officeDocument/2006/relationships/hyperlink" Target="http://usenet.freenet.de/" TargetMode="External"/><Relationship Id="rId4" Type="http://schemas.openxmlformats.org/officeDocument/2006/relationships/hyperlink" Target="http://usenet.freenet.de/" TargetMode="External"/><Relationship Id="rId5" Type="http://schemas.openxmlformats.org/officeDocument/2006/relationships/hyperlink" Target="http://usenet.freenet.de/" TargetMode="External"/><Relationship Id="rId6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net-Software: Allgemein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s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erne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teilt sich in folgende funktionale Bereiche auf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WW (= gemeinhin als „Internet“ bezeichn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-Mail (= elektronische Po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wsgroups (= Usen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TP (= Dateiübertragu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tc. (z.B. Telnet, Goph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ter dem technischen Gesichtspunkt handelt es sich dabei um unterschiedliche Protokoll-Eben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s diesem Grund bedarf es verschiedener Software-Produkte, um die jeweilige Funktion nutzen zu könn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net-Software: FT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24000" y="1197000"/>
            <a:ext cx="82087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net-Softwa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Nutzung des Internet basiert auf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zwei Prinzipie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lle Informationen werden als Hypertext-Dokumente angezeig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m Aufruf einer Information benötigt man eine gültige UR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as ist ein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Hypertex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ext, der als Datei vorlieg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d der nicht linear aufgebaut i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s wird durch Hyperlinks erreich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as ist ein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Hyperlink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ext, der mit dem Mauszeiger angeklickt werden kan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d zu einer anderen Stelle innerhalb des Dokumentes füh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der zu einem anderen Hypertext-Dokument führ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net-Software: WW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as ist eine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bkürzung für „Uniform Resource Locator“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e URL beschreibt den Ablageort einer Datei (Information, Software, Bild etc.) auf einem Rech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URL ist deshalb einmalig und weltweit gülti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ispie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http://www.evfh-berlin.de/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(Internet-Seite der Ev. Fachhochschule Berli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2"/>
              </a:rPr>
              <a:t>mailto:info@evfh-berlin.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(Allgemeine E-Mail-Adresse der EF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3"/>
              </a:rPr>
              <a:t>ftp://ftp.microsoft.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(Dateidownload von Microsof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4"/>
              </a:rPr>
              <a:t>news:de.sci.medizin.pfleg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(Newsgroup Fachbereich Pfleg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net-Software: WW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r Nutzung des WWW benötigt man einen so genannten „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ernet-Browser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“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Aufgabe eines Browsers beste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 Anzeigen von Hypertext-Dokumenten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urch aufrufen einer gültigen UR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050920" y="2637000"/>
            <a:ext cx="4896000" cy="37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net-Software: E-M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9185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r Nutzung der E-Mail Protokolle benötigt man einen so genannten „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-Mail-Clien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“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Aufgabe eines E-Mail-Clients beste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 Senden von elektronischen Nachrichten (Protokoll SMTP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 Empfangen von elektronischen Nachrichten (Protokoll POP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nötigte Dat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nutzer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ssw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OP3-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MTP-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net-Software: E-M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900000" y="981000"/>
            <a:ext cx="6985080" cy="534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net-Software: Ne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9185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r Nutzung des Usenet benötigt man einen so genannten „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ewsreader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“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Aufgabe eines Newsreaders beste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 der Verwaltung der persönlich genutzten Newsgroup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d dem Anzeigen und der Teilnahme an Diskussion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nötigte Dat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nutzer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ssw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wsserver (z.B. news.cis.dfn.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wsserver finden Sie entweder bei Ihrem Provider (T-Online, AOL etc.) oder Sie nutzen den Newsserver der FU-Berlin (kostenlos). Hierfür ist eine Anmeldung unter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http://news.cis.dfn.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notwendi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ruf von Newsgroups ohne Newsreader über „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2"/>
              </a:rPr>
              <a:t>www.google.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&gt; Groups“ oder über „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3"/>
              </a:rPr>
              <a:t>http://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4"/>
              </a:rPr>
              <a:t>usenet.freenet.de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5"/>
              </a:rPr>
              <a:t>/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“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net-Software: Ne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8137440" cy="51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net-Software: FT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r Nutzung des FTP benötigt man einen so genannten „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FTP-Clien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“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Aufgabe eines FTP-Client beste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 Anzeigen von Dateiverzeichnissen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t der Möglichkeit des Up- und Downloads von Datei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onderform aFTP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FTP = anonymus FT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TP-Adressen, die für den anonymen Zugriff freigegeben si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rd immer dann genutzt, wenn keine personenbezogene Identifizierung des Nutzers verlangt wi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ownload von Dateien ist in der Regeln in allen Verzeichnissen erlaub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pload von Dateien ist nicht erlaubt, oder nur in ein spezielles Verzeichni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eist findet sich in jedem Verzeichnis eine Datei mit der Bezeichnung „index.txt“ oder „readme.txt“, die Erläuterungen zu den einzelnen Dateien enthäl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dreas Heil</cp:lastModifiedBy>
  <dcterms:modified xsi:type="dcterms:W3CDTF">2003-01-13T11:08:14Z</dcterms:modified>
  <cp:revision>67</cp:revision>
  <dc:subject/>
  <dc:title>PowerPoint Presentation</dc:title>
</cp:coreProperties>
</file>