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Rechnertypen und -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AB14-DEAE-44BC-AA22-DCCC42F7D922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-online.de/" TargetMode="External"/><Relationship Id="rId2" Type="http://schemas.openxmlformats.org/officeDocument/2006/relationships/hyperlink" Target="http://www.e-online.de/" TargetMode="External"/><Relationship Id="rId3" Type="http://schemas.openxmlformats.org/officeDocument/2006/relationships/hyperlink" Target="http://www.e-online.de/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bios-info.de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lossar.de/" TargetMode="External"/><Relationship Id="rId2" Type="http://schemas.openxmlformats.org/officeDocument/2006/relationships/hyperlink" Target="http://glossary.ges-training.de/glossar/" TargetMode="External"/><Relationship Id="rId3" Type="http://schemas.openxmlformats.org/officeDocument/2006/relationships/hyperlink" Target="http://www.computer-woerterbuch.de/" TargetMode="External"/><Relationship Id="rId4" Type="http://schemas.openxmlformats.org/officeDocument/2006/relationships/hyperlink" Target="http://www.computer-woerterbuch.de/" TargetMode="External"/><Relationship Id="rId5" Type="http://schemas.openxmlformats.org/officeDocument/2006/relationships/hyperlink" Target="http://www.computer-woerterbuch.de/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er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16320" y="1742400"/>
            <a:ext cx="4311360" cy="3733920"/>
            <a:chOff x="2416320" y="1742400"/>
            <a:chExt cx="4311360" cy="3733920"/>
          </a:xfrm>
        </p:grpSpPr>
        <p:sp>
          <p:nvSpPr>
            <p:cNvPr id="53" name="_s5132"/>
            <p:cNvSpPr/>
            <p:nvPr/>
          </p:nvSpPr>
          <p:spPr>
            <a:xfrm flipV="1">
              <a:off x="2416320" y="4729680"/>
              <a:ext cx="4311360" cy="74628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6280"/>
                <a:gd name="textAreaBottom" fmla="*/ 64440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computer (P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5135"/>
            <p:cNvSpPr/>
            <p:nvPr/>
          </p:nvSpPr>
          <p:spPr>
            <a:xfrm flipV="1">
              <a:off x="2847960" y="398196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5131"/>
            <p:cNvSpPr/>
            <p:nvPr/>
          </p:nvSpPr>
          <p:spPr>
            <a:xfrm flipV="1">
              <a:off x="3278160" y="3236760"/>
              <a:ext cx="2587680" cy="74592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240 h 745920"/>
                <a:gd name="textAreaBottom" fmla="*/ 61668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nd-Alone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5134"/>
            <p:cNvSpPr/>
            <p:nvPr/>
          </p:nvSpPr>
          <p:spPr>
            <a:xfrm flipV="1">
              <a:off x="3710160" y="248832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0,5 bis 15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5130"/>
            <p:cNvSpPr/>
            <p:nvPr/>
          </p:nvSpPr>
          <p:spPr>
            <a:xfrm flipV="1">
              <a:off x="4140360" y="1742040"/>
              <a:ext cx="863280" cy="74628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840 h 746280"/>
                <a:gd name="textAreaBottom" fmla="*/ 4784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er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20 bis 30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tabl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code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ührungsempfindliche Geräte (Touchscreen, Mousepad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-Karten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on (Spracheing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Tasta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e Zeichen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en mit Zusatz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der 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ag der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s die Tastatur Ihr ständiges Arbeitsmittel zur Dateneingabe ist. Eine gute Tastatur rechtfertigt auch eine entsprechende Mehrausga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herstellerspezifische Tasten! Falls doch: Einführung der Tastatur im gesamten Unt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Funktionen der „Standard-Sondertasten“ kennen (F-Tasten, Esc-Taste, Strg-Taste, Alt-Taste, Windows-Taste, Druck-T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2381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M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des Mauszei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M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croll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- / Rechtsh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Maus ist weniger störanfäll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maus benötigt ständig Bat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atztasten benötigen auch zusätzliche Trei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077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lesen bestehend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llel / USB-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anner (schn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 der Scan-Vorgänge pro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der Vorlage (z.B. DIN A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Dokumentenscanner zur Zeit noch sehr teu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: Zusatzkosten durch gut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erkennung (OCR = Optical Character Recog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Ein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die Geräteleistung den Anforderungen (Bsp.: Einscannen von Dokumenten sehr zeitaufwändig. Profigeräte hingegen sehr teu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notwendige Schnittstelle zum Anschluss des Gerätes vorhan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, wie viele Mitarbeiter das Zehn-Finger-System beherrsch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ntscheidend für den „Zeitfaktor Dateneingab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uell Schulung in Betracht ziehen. (große Zeiterspar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nwand-Projektoren (Bea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tspre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i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406600" cy="2406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Bildschi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öhrenmonitor 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(Textver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größ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1“-Monitor für 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15“ ist gleich Röhr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wiederholfrequenz (min. 70 Her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lösung (min. 1024 * 768 Pi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r Kontrast &amp; Hell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O'99 Prüfsiegel (Ergono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 (Flachbildschirme sind teu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qualitativ hochwertiger Bildschirm lohnt sich bei langen Bildschirm-Arbeitszeiten in jedem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gleichen Sie die Monitore nebeneinander. (Sichtkontro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e sind teurer, jedoch absolut flimmerfrei. Deshalb sehr gute Eignung für Textverarbei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03328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155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184464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ntenstrah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gerä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mo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nrad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tScript-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Laser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schneller Druck (bis 3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Druckkosten (5 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druck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 sind der Standard im betrieblichen 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gebiet: Text- und Formular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nahme: Farbdruck (in der Regel reicht ein Tintenstrahl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60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Tintenstrah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geschwindigkeit (1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ünstiger Farbdruck (kleine Aufl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kosten (10 Cent Schwarz-Wei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billiger der Drucker, desto teurer das Verbrauchsmaterial (Ti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nen sich für mittleren Druckaufw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Eignung für gelegentliche Farbdruc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Geräte ermöglichen sehr guten Foto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09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- 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3313080" cy="46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hä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1943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other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3000" y="3933720"/>
            <a:ext cx="1942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1916280"/>
            <a:ext cx="1942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916280"/>
            <a:ext cx="1943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Nade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mulardruck mit Durchschlägen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 Druckgeschwind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niedrige Druckkos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 Cent pro Se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echt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Farbdruck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noch sinnvoll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schläge erwünsch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 nicht von Bedeu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2798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Lautspre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o / 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wo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akustische 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ordern eigenen Stell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Zukunft von Bedeutung, da akustische Rückmeldung und Spracheingabe und Sprachausgabe zuneh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ound nicht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Monitor mit integriertem Lautsprecher benu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58760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3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Entscheidungshil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Aus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as Gerät von mehreren Rechnern gleichzeitig benutzt werden? (z.B. 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dafür Zusatzgeräte notwendig (z.B. Print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m Standard-Betrieb lei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n Ausnahmefällen leisten? (z.B. Farbdru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t es arbeitsergonomische Vorgaben (die verbindlich sind)?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ildschirmarbeitsplatzverordn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Mainboard“ oder „Hauptplatine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Bestand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(Speicher, Kart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s im Internet:</a:t>
            </a:r>
            <a:br>
              <a:rPr sz="16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-online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34080" y="2030400"/>
            <a:ext cx="3436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Proz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tlich: Mikro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CPU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U = Central Proces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AMD u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rdinierung der Befe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hrt die Berechnungen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-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tkomma-Rec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ge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iert die einzelnen Strom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MHz entspricht 1 Mio. Takte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Chip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den Datenfluss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 (EIDE, AG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 (PCI, 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Chipsatz benötigt einen eigenen Trei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 = Random Acces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genannter „flüchtiger Speicher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werden bei Stromunterbrechung gelös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peichert alle Daten während des Rechnerbetrie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Sehr schneller Datenzugri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werden als SIMM-Module bezeich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ngle In-line Memory Mod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ist abhängig von der verwendeten Software. Für den Arbeitsplatzrechner in der Pflege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. 12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512 MB RAM sinnv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 bei Server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54520"/>
            <a:ext cx="309564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75280" y="3710160"/>
            <a:ext cx="1687320" cy="73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= Basic Input Outpu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uch als BIOS-ROM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M = Read Only Memory (nicht flüchtiger Spei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bleiben auch erhalten, wenn der Rechner vom Stromnetz getrenn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 des BIOS-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einstellungen bleiben immer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stellungen des Benutzers bleiben nur erhalten, solange die Batterie des Motherboards funktionstüchtig i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stellt den hardwareseitigen Teil des Betriebssystems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alle hardwareseitigen Einstellungen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 (Anzahl der Spuren, Sektor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reihenfolge (zuerst von Diskette oder Festpla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Informationen zu Einstell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bios-info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ower-on-Self-Test (PO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wird angesprochen und dessen Befehle abgearbei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lauf des POST-Vorgangs (Was wird geprüft?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-System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karte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 angeschloss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-Laufwerk wird gesucht –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e Hardware wird 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mit eigenem BIOS werden erkannt und geprüft (SCSI, Plug &amp; Play-Kompon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softwareseitigen Betriebssystems (vom Bootlaufwe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u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Weiterleitung der Daten zwischen den einzelnen Kompon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portiert Daten zwischen Prozessor und Hauptspei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st die entsprechende Adresse 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ob Daten gelesen oder geschri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von Bussystemen (siehe auch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Steckplä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Desk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 kann auf dem Rechner platzi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nung: Arbeitsplatz mit häufigem Zugriff auf Diskettenlaufwerk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Hersteller wenig bis kein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wierigerer Austausch von Komponenten (z.B. Festpla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 der Anschaffung sollte der benötigte Stellplatz bedacht werden. Voraussetzung ist ein großflächiger Bürotis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885080" y="4508640"/>
            <a:ext cx="21600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Daten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standard: E-IDE = Enhanced Integrated Devic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uss für Festplatten, CD-ROM- und DVD-Laufwer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übertragungsverfahren UDM = Ultra 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direkte Datenübertragung zwischen Festplatte und Arbeitsspeicher unter Umgehung der C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DMA 66, 100, 133 (höherer Wert = größerer Datendurchsa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drehungen 5.400 oder 7.20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all SC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 = Small Computer Syst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leistungsanschluss fü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Datenübertra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ierung erforder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fü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436920" cy="240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86640" y="3643200"/>
            <a:ext cx="1081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 = Accelerated Graphics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 für Grafik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 = Peripheral Component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 = Industry Standard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 bis 16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76960" y="105264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Grafikka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grafischen Ausgabe der Daten auf dem Bildschi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 nutzt den AGP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seltenen Fällen auch Karten für PCI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g. Dual-Head-Karten zum Betrieb von zwei Monit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Karte nur für Bildbearbeitung oder Spiele notwendig. Ansonsten reicht eine Standard-Karte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s nach Auflös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0 * 48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00 * 6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24 * 768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80 * 1024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0 * 12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48 * 1536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Weitere K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-Karten sind veraltet und können in neuen Rechnern nicht mehr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r Standard: PCI-Ka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ndkarte: ermöglicht Ein- und Ausgabe von Audiosigna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karte: ermöglicht die Verbindung mehrerer lokaler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n zur Verbindung mit dem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DN-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L-Adapter (enthält Modem und Netzwerk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Schnittstel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SB-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r Parallel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hnitt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ID-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llele-Schnittstel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äte wie, Drucker, Scanne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ch häufig im 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lle-Schnittstelle (12,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ltet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S/2-Schnittstelle (2 und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us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tatu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dio-Anschlüsse: Eingang (6), Ausgang (7), Mikrofon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B-Anschluss = Universal Serial Bus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127 Gerä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ell einsetzbar (Maus, Drucker, Scanner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anschluss (4) mit Kontrollleucht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rDA-Anschluss = Infrared Device Adapter = Infrarot-Schnittstelle (meist Lapt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ewire-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selten verwendet, jedoch immer häufiger im Rechner ent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Datenübertragungs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Anschluss (bis zu 15 Gerä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Speichermedien versteht man im weiteren Sinne alle Hardware-Komponenten, die der Aufbewahrung von Daten dienen (z.B. ROM, RAM, Diskette, Festplat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lltag (sprich: im engeren Sinne) bezeichnet man mit dem Begriff Speichermedien alle Komponenten, die der nicht flüchtigen Datenspeicherung dienen und eine Datenspeicherung durch den Nutzer zu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o: Man meint damit nicht ROM und R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peichermedien bezeichnet man auch als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 Speic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gnetspeicher (Diskette, ZIP-Diskette, Festplatte, Magnetband, Magnet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Speicher (CD-ROM, DVD-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r: Loch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an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Kilo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Me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48.5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G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Gi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073.741.824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T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 Terabyt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24 G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99.511.627.7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Disk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 versus 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½ Zoll = 1,44 MB oder 72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¼ Zoll = 1,2 MB oder 36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Zoll = 18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lativ)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eibschutz manuell aktivi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Datenaustausch, da praktisch jeder Rechner ein Diskettenlaufwerk besitz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peicherte Daten sind „handhabbar“ und damit leichter zu „begreifen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beschäd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Nutzen bei großen Dateien (z.B. Bil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en Sie Kontakt zu Magnetfeldern (z.B. Lautspre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extremer Kälte und Wärme (z.B. Au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Stau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gnetscheibe nicht berühr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1333440" cy="141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422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als Harddisk (aus dem englischen) bezeich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nn stark vari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zwischen 20 MB und 120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e Lebensd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roßen Datenmengen, Datenaustausch nur per Netzwerk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ädigung der Festplatte führt zum totalen Datenverl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festplat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 keine Festplatte im eigentlichen Si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elmehr kann die Festplatte in einem austauschbaren Rahmen eingebau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mit können mehrere Festplatten zur Datensicherung 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: Die Festplatte ist somit mobil und kann an einem sicheren Ort aufbewah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961920"/>
            <a:ext cx="8136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SC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 = Small Computer Syste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Festplatten unterscheiden sich äußerlich durch eine andere Steckverbi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 Meist nur im Server-Betr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letzte SCSI-Gerät muss „terminier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bei handelt es sich um einen Aufsatz, der den Bus abschließ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auf eine Terminierung verzichtet, kommt es zum Datenverlust bzw. das Gerät funktioniert n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schneller Festplatten-Zugr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 (im Vergleich mit EIDE-Festpla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zierte Speicherkapazität im Vergleich zu EIDE-Festpla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Mini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kann Platz sparend unter dem Tisch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te Möglichkeiten zur Erweit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t eigenen Stell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 von Störungen durch Fußtrit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am häufigsten gekaufter Gehäusety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4437000"/>
            <a:ext cx="25336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877080" y="3716280"/>
            <a:ext cx="28872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ZIP-Lauf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Iom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handelt sich um eine Art „Diskette“, jedoch mit erweiterter Speicherkapazitä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750 MB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ach zu transpor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ere Datenspeicherung (im Vergleich zu Diske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P-Laufwerk zum Lesen des Medium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Vergleich zu Festplatten recht te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CD-Laufwe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speicherung auf CD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ompact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Laufwe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nur lesen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lesen und schreiben können (sog. CD-Bre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Mediu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D, die nur geles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 = CD, die einmal beschrieb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W = CD, die mehrfach beschrieben und gelöscht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günstiges Speichermedium (50 CD-R = 17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t relativ große Datenmengen (600 bis 700 M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Brenner erforderlich (ca. 100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Preis-Leistungs-Verhältnis (meist) das beste Speichermedium zur Datensich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wichtig ist die Datensicheru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Priorität: privat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Priorität: berufsbezogen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Priorität: Unternehmen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häufig müssen Daten gesich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sich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: Festpl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ch: mehrere Kopien im Bank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teu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 (z.B. Festplatte, CD-RW Laufwerk, Bandlaufwer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rauchsmaterialien (z.B. Disketten, CD-ROMs, Bän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brechungsfreie Stromversor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V = Unterbrechungsfreie Strom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tändiges Gerät, dass die Stromversorgung des Rechners während eines Stromausfalls gewährleis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nen Akkumulator, der die 220 Volt Versorgung sicher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romversorgung bei totalem Stromausfall ist in der Regel bis zu 30 Minuten sicher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line USV: Rechner wird nur bei Stromausfall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USV: Rechner wird ständig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pannungen werden geglättet (nur offline-U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tromausfall führt nicht zu Datenver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Kosten für die Anschaffung des Gerä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bedingt auf die Leistung des Gerätes (Watt) achten. Dementsprechend viele (oder wenige) Verbraucher können angeschloss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1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das teuerste Produkt ist auch das beste Produ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ufen Sie – wenn möglich – den selben Computer mehrfach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normes Einsparpotenzial von Wartungsarb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neue Technolo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klärungen zu Abkürzungen im Hardware-Sektor finden sich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lossar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uch als Download verfügb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glossary.ges-training.de/gloss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computer-woerterbuch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steigerung mit Einbuß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: Je größer die Leistung, desto eher müssen die Rahmenbedingungen beach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„leistungsstarker Prozessor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rer Zugriff auf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: im Betrieb lauter, da größerer Lüfter eingesetzt werden m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: teures Wasserkühl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2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Neukauf für den Betri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vorzugen Sie Fertig-Systeme eines bekannten Computer-Herstellers (keinen Supermarkt-P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Grund: Je häufiger das System verkauft wird, desto sicherer kann man sein, dass die Komponenten gut aufeinander abgestimm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Grund: Supermarkt-PCs sollen möglichst viele verschiedene Möglichkeiten bieten (sprich: für jeden etwas dabei). Folge: Die Anzahl der Störfaktoren erhöht sich und damit die Fehleranfäll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„selbst gebastelte“ Modelle eines kleinen Händ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: Praktisch tägliche Änderung der Komponenten. Folge: Der Händler kann nicht abschätzen, ob die Komponenten tatsächlich fehlerfrei miteinander arb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Funk-Komponenten (Tastatur, Maus, Netzwerkkarte), da zur Zeit keine Abhörsicherheit gewährleist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3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nittstellen-Analys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en Sie vor dem Kauf, welche Schnittstellen benöti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in der Regel (nur) 5 PCI-Steckplätze zur Verfüg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z.B. hochwertige Grafikkarten einen freien Steckplatz zusätzlich benötigen, um Überhitzung zu verm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-board-Schnittstellen schaffen freie PCI-Steckplät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Problem: Ist die Komponente defekt, funktioniert u.U. das gesamte Motherboard nicht me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Problem: Die Beschaffung geeigneter Treiber kann u.U. große Schwierigkeiten be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Problem: On-board-Schnittstellen können nicht ausgebaut werden. Achten Sie daher auf die Möglichkeit, das Gerät im BIOS deaktivier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Big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mit vielen Zusatzger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verhältnisse (Folge: verminderter Wärmesta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st zu groß für Standard-Schranksysteme (Folge: Rechner muss frei ste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uer in der Anschaff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Platzangebot im Gehäuse wird meist nicht ausgenutzt. Die Anschaffung ist daher in vielen Fällen überflüss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427640" y="51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Server Gehä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re Unternehmens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robuste Konstruk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es sich tatsächlich um einen Server hand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icht in der Größe dem eines Big To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R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größe: 19 Z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sserver, Netzwerk-Verte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äuseschrank ist gleichzeitig „Klimakammer“. Daher hohe Geräte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Ein- und Ausbau von Kompon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Platzverbrau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für größere Netzwer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05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Tragbar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wertige Rechner: Laptop,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mit Notizfunktion: Handheld,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biler Arbeits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transport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en vor Ort möglich (z.B. mit Powerpoi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(interne)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weise schlechtere Geräteausstattung (z.B. Bildschir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leichte Möglichkeit eines Diebstahls (insbesondere der Daten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tatsächlich ein mobiles Gerät benötigt w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bedingt den Funktionsumfang bewer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2540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häuse enthält Netzte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pegel des Lüfter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eichende Ausgangsleistung (300 bis 350 Wa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dämmung (Dämm-Ma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cht zu öffnen (möglichst nicht verschraub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e Konstruktion (lose Gehäuseteile könnten schnar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e (auffällig oder dezen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3:50Z</dcterms:modified>
  <cp:revision>139</cp:revision>
  <dc:subject/>
  <dc:title>PowerPoint Presentation</dc:title>
</cp:coreProperties>
</file>