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8988425" cy="12909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4. Software I: Betriebssysteme und Werkzeu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2C31-A43C-4ACC-9D06-46F1948445E5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otsit.org/" TargetMode="External"/><Relationship Id="rId2" Type="http://schemas.openxmlformats.org/officeDocument/2006/relationships/hyperlink" Target="http://www.wotsit.org/" TargetMode="External"/><Relationship Id="rId3" Type="http://schemas.openxmlformats.org/officeDocument/2006/relationships/hyperlink" Target="http://www.wotsit.org/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reebsd.org/de/" TargetMode="External"/><Relationship Id="rId2" Type="http://schemas.openxmlformats.org/officeDocument/2006/relationships/hyperlink" Target="http://www.freebsd.org/de/" TargetMode="External"/><Relationship Id="rId3" Type="http://schemas.openxmlformats.org/officeDocument/2006/relationships/hyperlink" Target="http://www.freebsd.org/de/" TargetMode="Externa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te Abkürz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S = Operating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als Betriebs-Software bezeich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Allgemeine Aufg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Betriebssystem stellt di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ittstelle zwischen Anwendungs-Software und Hardware dar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dem es die Geräte und deren Datenein- und Datenausgabe verwal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dem ist das Betriebssystem für die Verwaltung von Dateien zustä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verarbei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c = Microsoft Word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xt = einfaches Text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tf = Rich Text Format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bellenkalkul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ls = Microsoft Excel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äsentations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pt = Microsoft Powerpoint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db = Microsoft Access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form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mp = Windows Bitmap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if = Graphics Interchange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gramm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xe = Executable Datei (= ausführbares Program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ste aller Dateiendungen unter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wotsit.org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Attribu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n besitzen Eigenschaften,die verändert werd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rt der Eigenschaften sind vom Betriebssystem abhäng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reibschutz (Read-Only)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Eigenschaft aktiviert, kann die Datei gelesen, nicht jedoch verändert werd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steckt (Hidden)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Eigenschaft aktiviert, wird die Datei im Explorer nicht angezeig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chiv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Eigenschaft aktiviert, wird die Datei bei der nächsten Systemsicherung auf dem Sicherungsmedium gespeich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Organis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n spricht von d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ateiorganisati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in ein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rdnerhierarchi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proble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edes Betriebssystem verwendet mehrere tausend Datei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zu kommen die Datendateien des Nutz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ös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lle Dateien werden in hierarchischer Form geord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s geschieht anhand einer Baumstruktur, die verschiedene Kategorien enthä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Baumstruktur wird durch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rdne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erzeug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03280" y="3284640"/>
            <a:ext cx="6048360" cy="2970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92360" y="573408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Ord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421080" y="5229000"/>
            <a:ext cx="792000" cy="4330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27640" y="4941720"/>
            <a:ext cx="165600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einzelne Dat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6156360" y="4437000"/>
            <a:ext cx="792000" cy="4334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ipps zur Ordnerhierarch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teilen Sie Ihre Ordner nach Gesichtspunkten, die Ihnen nachvollziehbar erschein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r Ordnerhierarchien, die von mehreren Nutzern verwaltet werden (z.B. im Betrieb)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Hierarchien (sprich: die Ordner-Bezeichnungen) müssen für alle Nutzer nachvollziehbar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Bezeichnungen der Ordner sollten nicht all zu häufig gewechselt werden. Deshalb im Vorau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n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!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r Ordner bedeutet später einen „Klick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teilen Sie deshalb Ihre Hierarchie möglichst grob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gilt das Gesagte für 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Sonderzei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Leerzei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Benutzeroberfläche dient der visuellen Darstellung der Datenein- und Datenausga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Betriebssystem gibt den Anwendungsprogrammen vor, welche Art der Benutzeroberfläche verwendet werd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 der Benutzeroberfläch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sche Benutzeroberflä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: She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dere Bezeichn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aufford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S-DOS-Box (eingebürgerter Begriff unter Windows-Betriebssystem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erbei handelt es sich um die einfache Form einer Benutzeroberfläch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spricht auch von ein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mmandozeilen-orientierten Benutzeroberfläch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ateneingabe erfolgt ausschließlich per Tastat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timmte Funktionen stehen ausschließlich in der Shell zur Verfüg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Befehl „ipconfig /all“ zum Anzeigen der Adresse des Netzwerk-Adap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e auf dem Markt befindlichen Betriebssysteme, stellen eine Shell zur Verfüg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: Shell – einiger Kommand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mmandos (= Befehle) werden im so genannten „Prompt“ eingege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ssehen des Prompts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:\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urch das Kommando teilt der Nutzer dem Betriebssystem mit, welche Aktion erfolgen so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m das Kommando auszuführen, muss die Eingabe-Taste betätig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swahl einiger Kommandos in D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listet alle verfügbaren Befehle au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ir /?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zeigt einen Hilfetext zum Befehl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i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i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listet alle Dateien eines Verzeichnisses au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el dateiname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löscht die Datei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ateiname.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n a.txt b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benennt die Datei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d 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erstellt einen Ordner mit dem Name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348000" y="4221000"/>
            <a:ext cx="518472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: Grafische Benutzer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dere Bezeichn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 = Graphical User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 der GUI handelt es sich um eine grafische Erweiterung der She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ateneingabe per Mauszeiger wird unterstütz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weile stellen alle modernen Betriebssysteme eine GUI zur Verfüg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GUI arbeitet mit der so genannten „Fenstertechnik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unterstützt das räumliche Empfinden des Nutz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in jedem Fall sind alle Funktionen über die GUI verfügb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 mit guten Schreibmaschinen-Kenntnissen, können per Shell die Kommandos schneller einge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6694560" cy="53564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Desktop-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242100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Verknüpf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2421000"/>
            <a:ext cx="2016360" cy="28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Desktop-Oberflä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84720" y="537372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Task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59280" y="5084640"/>
            <a:ext cx="165564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Pop-Up-Menü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1763280" y="1915920"/>
            <a:ext cx="792360" cy="43308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059280" y="4581360"/>
            <a:ext cx="792000" cy="43344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084360" y="5732640"/>
            <a:ext cx="792360" cy="43308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6765840" cy="52801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Programm-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03520" y="1865160"/>
            <a:ext cx="165564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Menü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76720" y="91764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Titel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5760" y="137952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Symbol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24360" y="599616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Status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59280" y="335772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Arbeitspla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995640" y="1065240"/>
            <a:ext cx="100800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626920" y="1314360"/>
            <a:ext cx="792360" cy="43344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869080" y="1484280"/>
            <a:ext cx="100800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642920" y="6153120"/>
            <a:ext cx="100836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äufig verwendete Betriebssysteme (Auswah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zelplatz-Betriebssyste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S-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ndows 95, 98, ME,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c 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betriebssysteme (mit Server-Funktione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ndows NT 4.0 Server, 2000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c OS X Server (Macint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vell Ne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S/2 (IB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nyan V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Dialogfens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89080" y="1547640"/>
            <a:ext cx="6335640" cy="40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Kontextmen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reichbar durch Klick auf die rechte Maustas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etet zugelassene Funktionen an, die im Kontext sinnvoll und erlaubt si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43815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Meldungsfens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979640" y="2421000"/>
            <a:ext cx="511344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: Wichtige 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taski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ähigkeit eines Betriebssystems, mehrere Anwendungen gleichzeitig auszuführen. (z.B. mit Textverarbeitung, Tabellenkalkulation und E-Mail-Programm gleichzeitig arbeiten)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nweis: Unter MS-DOS war dies noch nicht möglic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threadi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m Multitasking sehr ähnlich. Multithreading bezieht sich jedoch auf die Fähigkei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in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geöffneten Anwendung, mehrere Aufgaben auszuführen (z.B. mit dem Internet-Browser im Internet surfen und gleichzeitig (mit dem Internet-Browser) eine Datei downloaden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userfähigkei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s multiuserfähig bezeichnet man Betriebssysteme, die von mehreren Personen (= User) gleichzeitig benutzt werd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processi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Mehrfachverarbeitung genannt. Bezeichnet die gleichzeitige Verarbeitung von mehreren Programmen oder Prozessen bei gleichzeitiger Nutzung mehrerer Prozesso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: Wichtige 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ltstar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 des Betriebssystems, nachdem der Rechner ausgeschaltet gewesen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mstar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ustart des Betriebssystems, ohne dass der Rechner ausgeschalte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YSIWYG = What You See Is What You Ge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eichnet eine Darstellungsform der Inhalte auf dem Bildschirm, die derjenigen der Ausgabe per Drucker entsprich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ich: Was ich auf dem Bildschirm sehe, erhalte ich auch als Resultat nach dem Drucken des Dokumentes auf Papi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ag-and-Drop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den Datenaustausch zwischen verschiedenen Anwendungen (oder innerhalb einer Anwendung) durch „Ziehen und Fallenlassen“ mit Hilfe des Mauszei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heckliste: Lerninhalte Betriebs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vigation im Betriebs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rufen eines Program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n der Maus (insbesondere Kontextmenü per rechter Maustas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schnei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ü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pi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schie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n und Ordn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stel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benen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ös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n der Hilfe-Funk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definierte Einstellungen vorne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-Kurzbefehle (= Short-Cu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wahlkriterien für die 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tützt die Anwendungs-Software das Betriebssyst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tützt die vorhandene Hardware das Betriebssyst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funktionalität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basierte Rechtevergabe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sche Benutzerführung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fallsicherheit: Hohe Stabilität des Betriebssystems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ung per grafischer Oberfläche sinnvol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fakt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affungsko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date-Ko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tungsko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Dienstprogram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 (Werkzeu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sind Werkzeuge, die das Betriebssystem in seinen Funktionen unterstützen, z.B. bei 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hlerdiagnose und -korrektur (z. B. Scandis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der Einstellungen des Betriebssystems (z. B. Tweak-U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trägerverwaltung (z. B. Defragmenti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sicherung, -sicherheit (z. B. Systemwiederherstell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handelt sich um eigenständige Programme. Um ein Dienstprogramm nutzen zu können, muss das Programm gezielt gestar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aussetz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er muss (vorher) wissen, dass das Dienstprogramm vorhanden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 muss wissen, welche Funktion das Dienstprogramm erfü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 muss wissen, welchen Nutzen er aus dieser Funktion zieh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der Weiterentwicklung eines Betriebssystems, werden immer mehr Dienstprogramme integriert (z. B. Dateikomprimierung: bisher nur von Fremdanbietern zu beziehen – heute in Windows XP bereits integri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 (Werkzeuge): Verfügbarke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ung nach Verfügbarke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Betriebssystem enthaltene Dienstprogramme (inter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jedem Betriebssystem werden i.d.R. mehrere Werkzeuge mitgelief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 nach Version (z. B. Windows 98, 2000, XP) liefert der Hersteller unterschiedliche Dienstprogramme mit aus, d. h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d00f04"/>
                </a:solidFill>
                <a:latin typeface="Arial"/>
              </a:rPr>
              <a:t>eventuell steht Ihnen mit Ihrem neuen Windows</a:t>
            </a:r>
            <a:br>
              <a:rPr sz="1600"/>
            </a:br>
            <a:r>
              <a:rPr b="0" lang="de-DE" sz="1600" spc="-1" strike="noStrike">
                <a:solidFill>
                  <a:srgbClr val="d00f04"/>
                </a:solidFill>
                <a:latin typeface="Arial"/>
              </a:rPr>
              <a:t>eine vorher verfügbare Funktion nicht mehr zur Verfügung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des Betriebssystem-Herstellers, die optional erhältlich si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. d. R. Wartungswerkzeuge (z. B. Microsoft-Tweak-U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von Fremdanbietern (exter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rkzeuge von Fremdanbietern, die als eigenständige Software verkauft werden (z.B. Norton Ghos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rkzeuge von Hardware-Anbietern (z.B. Analysetools des Festplatten-Hersteller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rkunft der Betriebs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ndow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siert auf einer Eigenentwicklung von Bill Gates und ist der Nachfolger von MS-DOS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ix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fänglich von der Telefongesellschaft „Bell Telephone Laboratories“ entwickelt, später von verschiedenen Universitäten weiterentwickelt. Mittlerweile sehr viele Abkömmlinge (kommerziell und nicht kommerziell, z.B. FreeBSD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freebsd.org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ux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siert auf der Weiterentwicklung des Betriebssystems Unix in Eigeninitiative von Linus Torvalds. Ziel: Kostenfreies Betriebssystem mit Offenlegung des Quellcodes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c OS, OS/2, Unix-Abkömmling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sieren auf Entwicklungen von Hardware-Hersteller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 (Werkzeuge): Starta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ung nach Startar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art: GU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Werkzeug kann mit Hilfe der Grafischen Benutzeroberfläche gestar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art: Eingabeaufford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Werkzeug wird per Kommando in der Eingabeaufforderung gestar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art: Disk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Werkzeug wird von einer bootfähigen Diskette gestar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Variante wird immer dann gewählt, wenn ausgeschlossen werden soll, dass Dateien des Betriebssystems aktuell in Benutzung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Wichtige Beispie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fragmentier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„Aufräumen der Festplatte“. Ordnet Dateifragmente wieder nebeneinander an, so dass schneller darauf zugegriffen werd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Start &gt; Programme &gt; Zubehör &gt; Systemprogramme &gt; Defragment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„defrag /?“ – zeigt die Optionen der Funktion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träger-Prüf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Prüft den Datenträger (Festplatte oder Diskette) auf Fehler (gilt sowohl für mechanische als auch für Fehler, die aufgrund fehlerhafter Speicherung durch die Software zustande gekommen is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Start &gt; Programme &gt; Zubehör &gt; Systemprogramme &gt; Scand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„chkdsk /?“ – unter Windows NT, 2000 un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Wichtige Beispie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ystemwiederherstell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Stellt alle wichtigen Systemdateien des Betriebssystems wieder 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ungszweck: Ausfall oder Störung des Betriebssyste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Nicht vorha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„sfc /?“ – zeigt die Optionen der Funktion an. (nur unter Windows 2000 und X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wiederherstell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Stellt verloren gegangene Dateien wieder her, mit dem Stand der letzten Datensich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Start &gt; Programme &gt; Zubehör &gt; Systemprogramme &gt; Sicherung bzw. Bac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Nicht vorha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Praxisbeispiel „Datensicherung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sher verwendet unter Wind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wiederherstellung (Backup) von Microsof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nächst wird eine Vollsicherung des Datenträgers erstellt (sprich: alle Dateien werden auf einen zweiten Datenträger kopier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ießend werden nur noch diejenigen Daten gesichert, die vom Zeitpunkt der ersten Sicherung an verändert wu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: Dauer der Sicherung bis zu mehreren Stu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ternatives Dienstprogramm „Norton Ghost“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ersteller Symant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: ca. 40 bis 50 Euro pro Lizenz (Rechne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wird eine Vollsicherung einer Partition oder Festplatte angele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uer der Sicherung 5 bis 10 Minu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einfache Bedienung (nach erster Ein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Folgen Praxisbeispiel „Datensicherung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die Praxis aussieh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rund der langen Dauer der Systemsicherung, wird häufig auf eine Datensicherung verzich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rund des hohen Speicherbedarfs müssen Zusatzgeräte angeschafft werden (Bandlaufwerke), die wiederum mit hohen Kosten verbund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age-Werkzeuge wie „Norton Ghost“ oder „Drive Image“ sind nicht bekannt, oder ihre Funktionsweise wird unterschätz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er glaubt, es handele sich dabei „einfach nur“ um ein weiteres Backup-Werkzeu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Der Nutzer denkt, er besäße bereits ein solches (sprich: die Systemwiederherstellung von Window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Er schenkt der neuen technischen Möglichkeit keine weitere Beach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Systemausfall, Datenverlust, unnötige Ko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können u. U. Kosten durch Servicetechniker (enorm) eindämmen. Deshalb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hmen Sie beim Lesen einschlägiger Literatur diese Tools bewusst wah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agen Sie sich: „Was kann das Werkzeug? Und was kann es nicht?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agen Sie sich: „Bringt mir diese Funktion eine wesentlich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rbeitserleichter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/o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eitersparni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/o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stenersparni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jedes Dienstprogramm ist sinnvo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sp.: Eventuell ist die Funktion eines kommerziellen Dienstprogramms in einer anderen Software bereits im Rahmen eines Werkzeug-Paketes eingebu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shalb gilt: Vergleichen Sie vor dem Kauf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werten Sie den Lernaufwand (insbesondere dann, wenn die Software von vielen Mitarbeitern bedient wird.), denn Lernaufwand = Kostenfak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n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es Werkzeug-Einsatz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ntergrund: Bestimmte Werkzeuge (z.B. Defragmentierung) müssen regelmäßig angewendet werden, um effektiv zu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Innerbetrieblich sollte eine Checkliste geführt werden, welche Aufgabe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an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bzw. wie häufig),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 we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n welchem Rechn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zu erledig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udimentäre Aufgaben eines 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der Hardware (Geräteverwaltung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ermöglicht den Zugriff auf Endgeräte (z.B. Festplatte, Modem, Soundkarte, Grafikkarte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Treiber ermöglichen damit eine geordnete Abfolge der Ein- und Ausgabefunktio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ug and Play-Funktion: Das Betriebssystem erkennt automatisch neu hinzugefügte Geräte und bindet diese in das System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des Arbeitsspeiche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verteilt den vorhandenen Speicherplatz an alle Anwendungen (= Anwendungs-Software), die aktuell geöffnet sind (d.h. benutzt werden)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verwal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Betriebssystem verwaltet die Dateien auf dem Datenträger. Es gewährleistet einen fehlerfreien Zugriff und eine fehlerfreie Ablage der Date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ßerdem verwaltet es die Ablagehierarchie (Ordnerhierarchie) in Form einer Baumstrukt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udimentäre Aufgaben eines 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und Nutzung der Anwendungs-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ermöglicht die Nutzung von Programmen und deren Funktionalität (z.B. Textverarbeitung, Tabellenkalkulatio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kontrolliert den Start und die Beendigung der Program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reagiert (teilweise) auf Fehler innerhalb eines Program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stellt Dienstprogramme zur Verfügung, z.B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fragmentierung (Neuanordnung von Dateifragmenten auf dem Rechn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wachungsprogramme, z.B. zur Beobachtung der Prozessorauslas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tokollierung ausgewählter Arbeitsabläufe, um die Behebung von Fehlern zu erleichtern (Hinweis: in der Regel nicht bei Betriebssystemen für Heimanwender vorhanden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sätzliche Aufgaben eines Netzwerk-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verwal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Benutzerverwaltung wird im Zusammenhang mit der Rechteverwaltung eingesetz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ermöglicht eine gezielte Freigabe bestimmter Funktionen, für bestimmte Nutz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enutzer „Mitarbeiter“ darf Programme ausführen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aber ein Programm installie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chteverwal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Rechteverwaltung wird im Zusammenhang mit der Benutzerverwaltung eingesetz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Rechteverwaltung ermöglicht eine gezielte Steuerung der Nutzungsrechte auf Dateiebe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enutzer „Mitarbeiter“ darf bestimmte Dateien zwar ansehen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aber Änderungen an der Datei vor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Allgemeines + N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Datei ist eine Ansammlung zusammen gehörender Daten, die mit einem Anwendungsprogramm erstellt und auf einem Datenträger gespeicher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s Betriebssystem oder Anwendungsprogramm basiert auf einer oder mehreren Date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kennzeichnet eine Datei durch einen Dateinamen. Der Dateiname besteht dabei 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eichnung der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unkt als Trennzei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rweiterung (i.d.R. 3 bis 4 Zeich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beitspapier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eichnung der Datei = Arbeitspap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rweiterung = doc = Microsoft Word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ipps zur Namensgeb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erzeichen im Dateina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n: Trennen Sie mit Bindestrich oder Unterst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zeichen im Dateinamen (z.B. %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lange Dateinamen (größer 100 Zeich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n Si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sagekräftige Dateina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: dipmu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n: diplomarbeit_mueller_2002_10_01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ennen Sie inhaltlich unterschiedliche Namensbestandteile durch einen Trennzei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 erleichtert die Lesbark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gramm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enthalten ausführbare Anwendungsprogram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den meist mit der Dateiendung „.exe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enthalten Daten, die mit einem Anwendungsprogramm erzeug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ateiendung weist vielfach auf das damit verbundene Anwendungsprogramm (z.B. Word) bzw. den Typ des Anwendungsprogrammes (z.B. Textverarbeitung) h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2-01T23:13:14Z</dcterms:modified>
  <cp:revision>112</cp:revision>
  <dc:subject/>
  <dc:title>PowerPoint Presentation</dc:title>
</cp:coreProperties>
</file>