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685800" y="112500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685800" y="371988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4"/>
          <p:cNvSpPr>
            <a:spLocks noGrp="1"/>
          </p:cNvSpPr>
          <p:nvPr>
            <p:ph/>
          </p:nvPr>
        </p:nvSpPr>
        <p:spPr>
          <a:xfrm>
            <a:off x="68580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5"/>
          <p:cNvSpPr>
            <a:spLocks noGrp="1"/>
          </p:cNvSpPr>
          <p:nvPr>
            <p:ph/>
          </p:nvPr>
        </p:nvSpPr>
        <p:spPr>
          <a:xfrm>
            <a:off x="466848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2"/>
          <p:cNvSpPr>
            <a:spLocks noGrp="1"/>
          </p:cNvSpPr>
          <p:nvPr>
            <p:ph/>
          </p:nvPr>
        </p:nvSpPr>
        <p:spPr>
          <a:xfrm>
            <a:off x="68580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3"/>
          <p:cNvSpPr>
            <a:spLocks noGrp="1"/>
          </p:cNvSpPr>
          <p:nvPr>
            <p:ph/>
          </p:nvPr>
        </p:nvSpPr>
        <p:spPr>
          <a:xfrm>
            <a:off x="331380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4"/>
          <p:cNvSpPr>
            <a:spLocks noGrp="1"/>
          </p:cNvSpPr>
          <p:nvPr>
            <p:ph/>
          </p:nvPr>
        </p:nvSpPr>
        <p:spPr>
          <a:xfrm>
            <a:off x="594144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5"/>
          <p:cNvSpPr>
            <a:spLocks noGrp="1"/>
          </p:cNvSpPr>
          <p:nvPr>
            <p:ph/>
          </p:nvPr>
        </p:nvSpPr>
        <p:spPr>
          <a:xfrm>
            <a:off x="68580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6"/>
          <p:cNvSpPr>
            <a:spLocks noGrp="1"/>
          </p:cNvSpPr>
          <p:nvPr>
            <p:ph/>
          </p:nvPr>
        </p:nvSpPr>
        <p:spPr>
          <a:xfrm>
            <a:off x="331380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7"/>
          <p:cNvSpPr>
            <a:spLocks noGrp="1"/>
          </p:cNvSpPr>
          <p:nvPr>
            <p:ph/>
          </p:nvPr>
        </p:nvSpPr>
        <p:spPr>
          <a:xfrm>
            <a:off x="594144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type="subTitle"/>
          </p:nvPr>
        </p:nvSpPr>
        <p:spPr>
          <a:xfrm>
            <a:off x="685800" y="1125000"/>
            <a:ext cx="7772400" cy="49676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68580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466848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60" y="333000"/>
            <a:ext cx="8675640" cy="2392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66848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68580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68580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4"/>
          <p:cNvSpPr>
            <a:spLocks noGrp="1"/>
          </p:cNvSpPr>
          <p:nvPr>
            <p:ph/>
          </p:nvPr>
        </p:nvSpPr>
        <p:spPr>
          <a:xfrm>
            <a:off x="466848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4"/>
          <p:cNvSpPr>
            <a:spLocks noGrp="1"/>
          </p:cNvSpPr>
          <p:nvPr>
            <p:ph/>
          </p:nvPr>
        </p:nvSpPr>
        <p:spPr>
          <a:xfrm>
            <a:off x="685800" y="371988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flipV="1" rot="16200000">
            <a:off x="4211640" y="2240640"/>
            <a:ext cx="468000" cy="8893080"/>
          </a:xfrm>
          <a:prstGeom prst="rect">
            <a:avLst/>
          </a:prstGeom>
          <a:solidFill>
            <a:srgbClr val="fffb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 name="PlaceHolder 3"/>
          <p:cNvSpPr>
            <a:spLocks noGrp="1"/>
          </p:cNvSpPr>
          <p:nvPr>
            <p:ph type="ftr" idx="1"/>
          </p:nvPr>
        </p:nvSpPr>
        <p:spPr>
          <a:xfrm>
            <a:off x="684000" y="6501960"/>
            <a:ext cx="4895640" cy="298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5. IT Projektmanagement</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8505720" y="0"/>
            <a:ext cx="638280" cy="352440"/>
          </a:xfrm>
          <a:prstGeom prst="rect">
            <a:avLst/>
          </a:prstGeom>
          <a:ln w="0">
            <a:noFill/>
          </a:ln>
        </p:spPr>
      </p:pic>
      <p:sp>
        <p:nvSpPr>
          <p:cNvPr id="5" name=""/>
          <p:cNvSpPr/>
          <p:nvPr/>
        </p:nvSpPr>
        <p:spPr>
          <a:xfrm>
            <a:off x="8888400" y="333360"/>
            <a:ext cx="255600" cy="6524640"/>
          </a:xfrm>
          <a:prstGeom prst="rect">
            <a:avLst/>
          </a:prstGeom>
          <a:solidFill>
            <a:srgbClr val="000e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732880" y="347760"/>
            <a:ext cx="158760" cy="6524640"/>
          </a:xfrm>
          <a:prstGeom prst="rect">
            <a:avLst/>
          </a:prstGeom>
          <a:solidFill>
            <a:srgbClr val="fffb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8690040" y="254160"/>
            <a:ext cx="50760" cy="618948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9360" y="0"/>
            <a:ext cx="50760" cy="688500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558720" y="6443640"/>
            <a:ext cx="1116000" cy="412920"/>
          </a:xfrm>
          <a:prstGeom prst="ellipse">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69840" y="6524640"/>
            <a:ext cx="541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F8FFE-0076-488D-8B7B-EA13DC46A00C}" type="slidenum">
              <a:rPr b="1" lang="de-DE"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11" name=""/>
          <p:cNvSpPr/>
          <p:nvPr/>
        </p:nvSpPr>
        <p:spPr>
          <a:xfrm rot="16200000">
            <a:off x="4341600" y="2064960"/>
            <a:ext cx="50760" cy="873432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rot="16200000">
            <a:off x="4317840" y="-4388040"/>
            <a:ext cx="71640" cy="878040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6159600" y="6458040"/>
            <a:ext cx="26654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ndreas Heil</a:t>
            </a:r>
            <a:br>
              <a:rPr sz="1000"/>
            </a:br>
            <a:r>
              <a:rPr b="0" lang="de-DE" sz="1000" spc="-1" strike="noStrike">
                <a:solidFill>
                  <a:srgbClr val="000000"/>
                </a:solidFill>
                <a:latin typeface="Arial"/>
              </a:rPr>
              <a:t>Evangelische Fachhochschule Berlin</a:t>
            </a:r>
            <a:endParaRPr b="0" lang="en-US" sz="1000" spc="-1" strike="noStrike">
              <a:solidFill>
                <a:srgbClr val="000000"/>
              </a:solidFill>
              <a:latin typeface="Times New Roman"/>
            </a:endParaRPr>
          </a:p>
        </p:txBody>
      </p:sp>
      <p:sp>
        <p:nvSpPr>
          <p:cNvPr id="14" name=""/>
          <p:cNvSpPr/>
          <p:nvPr/>
        </p:nvSpPr>
        <p:spPr>
          <a:xfrm rot="16200000">
            <a:off x="4347360" y="-3439440"/>
            <a:ext cx="17640" cy="8712360"/>
          </a:xfrm>
          <a:prstGeom prst="rect">
            <a:avLst/>
          </a:prstGeom>
          <a:gradFill rotWithShape="0">
            <a:gsLst>
              <a:gs pos="0">
                <a:srgbClr val="d00f04"/>
              </a:gs>
              <a:gs pos="50000">
                <a:srgbClr val="ffffff"/>
              </a:gs>
              <a:gs pos="100000">
                <a:srgbClr val="d00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bund.de/Service-Center/Ausschreibungen/Rechtliche-Grundlagen-.6471.htm" TargetMode="External"/><Relationship Id="rId2" Type="http://schemas.openxmlformats.org/officeDocument/2006/relationships/hyperlink" Target="http://www.bund.de/Service-Center/Ausschreibungen/Rechtliche-Grundlagen-.6471.htm" TargetMode="External"/><Relationship Id="rId3" Type="http://schemas.openxmlformats.org/officeDocument/2006/relationships/hyperlink" Target="http://www.bund.de/Service-Center/Ausschreibungen/Rechtliche-Grundlagen-.6471.htm" TargetMode="Externa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T Projektmanagement</a:t>
            </a:r>
            <a:endParaRPr b="1" lang="en-US" sz="2000" spc="-1" strike="noStrike">
              <a:solidFill>
                <a:srgbClr val="000000"/>
              </a:solidFill>
              <a:latin typeface="Arial"/>
            </a:endParaRPr>
          </a:p>
        </p:txBody>
      </p:sp>
      <p:sp>
        <p:nvSpPr>
          <p:cNvPr id="52"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ede Einführung einer Software-Lösung muss als Projekt verstanden we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jedem Fall ist es notwendig einen Projektverantwortlichen zu benennen.</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nachfolgende Beispiel erläutert den Projektverlauf zur Einführung einer Dienstplanungs-Software. Der Verlauf unterteilt sich in vier Phase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hase 1: Analys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hase 2: Auswahl</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hase 3: Installa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hase 4: Wartung</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76"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Nutzwertanalyse &gt; Methodik</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le relevanten Funktionen werden in Tabellenform aufgeliste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ede dieser Funktionen wird mit Punkten bewerte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 = Funktion unzureichend erfüll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 = Funktion erfüllt, aber mit Einbußen im Betrieb</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 = Funktion erfüllt, ohne Einbußen, jedoch nicht wie gewünsch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 Funktion voll erfüll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sätzlich wird für jede Funktion ein Gewichtungsfaktor festgeleg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 = Funktion ist wünschenswert, aber nicht essentiell</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 = sollte in Teilen vorhanden sei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 = Funktion sollte größtenteils vorhanden sei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 Funktion in jedem Fall notwendig</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m ein Einzelergebnis zu erhalten, wird nun die Punktzahl mit dem Gewichtungsfaktor multipliziert.</a:t>
            </a:r>
            <a:br>
              <a:rPr sz="1600"/>
            </a:br>
            <a:r>
              <a:rPr b="0" lang="de-DE" sz="1600" spc="-1" strike="noStrike">
                <a:solidFill>
                  <a:srgbClr val="000000"/>
                </a:solidFill>
                <a:latin typeface="Arial"/>
              </a:rPr>
              <a:t>Ergebnis ist die Bewertung einer Funktion von einer Softwar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Gesamtergebnis erhält man, wenn man alle Einzelergebnisse addiert. Diese Zahl ermöglicht schließlich den Vergleich der verschiedenen Produkt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1. Analyse: Methoden</a:t>
            </a:r>
            <a:endParaRPr b="1" lang="en-US" sz="2000" spc="-1" strike="noStrike">
              <a:solidFill>
                <a:srgbClr val="000000"/>
              </a:solidFill>
              <a:latin typeface="Arial"/>
            </a:endParaRPr>
          </a:p>
        </p:txBody>
      </p:sp>
      <p:pic>
        <p:nvPicPr>
          <p:cNvPr id="78" name="" descr=""/>
          <p:cNvPicPr/>
          <p:nvPr/>
        </p:nvPicPr>
        <p:blipFill>
          <a:blip r:embed="rId1"/>
          <a:stretch/>
        </p:blipFill>
        <p:spPr>
          <a:xfrm>
            <a:off x="611280" y="1484280"/>
            <a:ext cx="7772400" cy="2489400"/>
          </a:xfrm>
          <a:prstGeom prst="rect">
            <a:avLst/>
          </a:prstGeom>
          <a:ln w="0">
            <a:noFill/>
          </a:ln>
        </p:spPr>
      </p:pic>
      <p:sp>
        <p:nvSpPr>
          <p:cNvPr id="79" name=""/>
          <p:cNvSpPr/>
          <p:nvPr/>
        </p:nvSpPr>
        <p:spPr>
          <a:xfrm>
            <a:off x="815760" y="4336920"/>
            <a:ext cx="5391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 = Punkte pro Kriteri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G = Gewichtete Punkte pro Kriterium (= Gewichtung * P)</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81"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Nutzwertanalyse &gt; Beispielauswertung</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nbegrenzte Dienste verfügba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wichtung 4 - Begründung: Langfristig sollen alle Berufsgruppen mit der Software verwaltet werden. Jedoch steht die Anzahl der Dienste noch nicht fes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1 – 1 Punkt: Die Anzahl der Dienste ist festgelegt und kann nicht verändert werde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2 – 4 Punkte: Die Anzahl der Dienste ist unbegrenzt erweiterbar.</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ammdaten importierba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wichtung 1 - Begründung: Die Stammdaten der Mitarbeiter sind in der Personalabteilung bereits erfasst. Letztlich ist der Zeitaufwand zur Neuerfassung jedoch begrenz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1 – 4 Punkte: Der Datenimport ist im vollen Umfang möglich.</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2 – 1 Punkt: Der Datenimport ist möglich, nicht jedoch für die im Hause verwendete Software.</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83"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Nutzwertanalyse &gt; Beispielauswertung</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onatsübersicht für mind. 10 Mitarbeiter am Bildschirm darstellba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wichtung 3 - Begründung: Da teilweise bis zu 30 Mitarbeitern pro Station eingesetzt werden, ist die Übersichtsfunktion für die Planung unerlässlich. Als Alternative wären jedoch auch andere Übersichtsformen (z.B. per Ausdruck) akzeptabe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1 – 4 Punkte: Die Darstellung von 15 Mitarbeitern ist gleichzeitig möglich.</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2 – 3 Punkte: Die Darstellung von 7 Mitarbeitern gleichzeitig ist möglich.</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etzwerkfähigkei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wichtung 2 - Begründung: Grundsätzlich muss das Produkt netzwerkfähig sein. Eine Benutzerverwaltung ist jedoch nicht notwendig. D.h. es erscheint ausreichend, wenn Führungskräfte gleichzeitig Zugang gewährt wir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1 – 4 Punkte: Das Produkt ist voll netzwerkfähig und enthält eine detaillierte Benutzerverwaltung.</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2 – 4 Punkte: Das Produkt ist voll netzwerkfähig und enthält eine detaillierte Benutzerverwaltung.</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85"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Nutzwertanalyse &gt; Beispielauswertung &gt; Ergebni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Multiplikation der Einzelpunkte mit der jeweiligen Gewichtung ergibt in absoluten Zahlen für:</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1: Absolute Punktzahl 28 (= 70 Prozen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2: Absolute Punktzahl 34 (= 85 Prozent)</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bwohl der Import der Stammdaten bei Produkt 2 nicht möglich ist, wird der Kauf von Produkt 2 empfohlen. Grund hierfür ist die hohe Relevanz der anderen Funktionen und der dazugehörigen Leistungsfähigkeit des Produk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a:t>
            </a:r>
            <a:endParaRPr b="1" lang="en-US" sz="2000" spc="-1" strike="noStrike">
              <a:solidFill>
                <a:srgbClr val="000000"/>
              </a:solidFill>
              <a:latin typeface="Arial"/>
            </a:endParaRPr>
          </a:p>
        </p:txBody>
      </p:sp>
      <p:sp>
        <p:nvSpPr>
          <p:cNvPr id="87" name="PlaceHolder 2"/>
          <p:cNvSpPr>
            <a:spLocks noGrp="1"/>
          </p:cNvSpPr>
          <p:nvPr>
            <p:ph/>
          </p:nvPr>
        </p:nvSpPr>
        <p:spPr>
          <a:xfrm>
            <a:off x="4647960" y="1125000"/>
            <a:ext cx="3809880" cy="496764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ilotinstallation</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iefgreifende Tests der Software vor Or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st eine Pilotinstallation nicht möglich, so sollten zu diesem Zeitpunkt Referenzkunden der ausgewählten Produkte kontaktiert werden.</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duktauswahl</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öglichkeit 1: Gewünschtes Produkt wurde gefunden und wird gekauf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öglichkeit 2: Kein Produkt erfüllt die Anforderungen. Dann folgt:</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rage an die besten ermittelten Hersteller, inwiefern eine individualisierte Anpassung möglich ist (= Customizing).</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ommt eine Individual-Software in Betracht?</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uss eine erneute Recherche erfolgen?</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dergebnis: Abschluss des Kaufvertrages.</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
          <p:cNvSpPr/>
          <p:nvPr/>
        </p:nvSpPr>
        <p:spPr>
          <a:xfrm>
            <a:off x="539640" y="3263760"/>
            <a:ext cx="295128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hase 2:</a:t>
            </a:r>
            <a:br>
              <a:rPr sz="1800"/>
            </a:br>
            <a:r>
              <a:rPr b="1" lang="de-DE" sz="2400" spc="-1" strike="noStrike">
                <a:solidFill>
                  <a:srgbClr val="000000"/>
                </a:solidFill>
                <a:latin typeface="Arial"/>
              </a:rPr>
              <a:t>Auswahl</a:t>
            </a:r>
            <a:endParaRPr b="0" lang="en-US" sz="2400" spc="-1" strike="noStrike">
              <a:solidFill>
                <a:srgbClr val="000000"/>
              </a:solidFill>
              <a:latin typeface="Times New Roman"/>
            </a:endParaRPr>
          </a:p>
        </p:txBody>
      </p:sp>
      <p:sp>
        <p:nvSpPr>
          <p:cNvPr id="89" name=""/>
          <p:cNvSpPr/>
          <p:nvPr/>
        </p:nvSpPr>
        <p:spPr>
          <a:xfrm>
            <a:off x="3708360" y="1125360"/>
            <a:ext cx="576360" cy="4967640"/>
          </a:xfrm>
          <a:custGeom>
            <a:avLst/>
            <a:gdLst>
              <a:gd name="textAreaLeft" fmla="*/ 368280 w 576360"/>
              <a:gd name="textAreaRight" fmla="*/ 576720 w 576360"/>
              <a:gd name="textAreaTop" fmla="*/ 129240 h 4967640"/>
              <a:gd name="textAreaBottom" fmla="*/ 4838400 h 496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3. Installation</a:t>
            </a:r>
            <a:endParaRPr b="1" lang="en-US" sz="2000" spc="-1" strike="noStrike">
              <a:solidFill>
                <a:srgbClr val="000000"/>
              </a:solidFill>
              <a:latin typeface="Arial"/>
            </a:endParaRPr>
          </a:p>
        </p:txBody>
      </p:sp>
      <p:sp>
        <p:nvSpPr>
          <p:cNvPr id="91" name="PlaceHolder 2"/>
          <p:cNvSpPr>
            <a:spLocks noGrp="1"/>
          </p:cNvSpPr>
          <p:nvPr>
            <p:ph/>
          </p:nvPr>
        </p:nvSpPr>
        <p:spPr>
          <a:xfrm>
            <a:off x="4647960" y="1125000"/>
            <a:ext cx="3809880" cy="496764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tenschutz- und Ausfallkonzep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lanung der Datenschutz-Maßnahmen</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lanung der Systemsicherung</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lanung der Datensicheru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ardwar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fbau des Netzwerks</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fbau der Hardwar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stallation des Betriebssystems</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oftwar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stallation der Standard-Softwar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stallation der Dienstplanungs-Softwar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ystemsicherung</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ulung</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chulung des Administrators</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chulung der Mitarbeiter</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gangsphase</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
          <p:cNvSpPr/>
          <p:nvPr/>
        </p:nvSpPr>
        <p:spPr>
          <a:xfrm>
            <a:off x="539640" y="3263760"/>
            <a:ext cx="295128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hase 3:</a:t>
            </a:r>
            <a:br>
              <a:rPr sz="1800"/>
            </a:br>
            <a:r>
              <a:rPr b="1" lang="de-DE" sz="2400" spc="-1" strike="noStrike">
                <a:solidFill>
                  <a:srgbClr val="000000"/>
                </a:solidFill>
                <a:latin typeface="Arial"/>
              </a:rPr>
              <a:t>Installation</a:t>
            </a:r>
            <a:endParaRPr b="0" lang="en-US" sz="2400" spc="-1" strike="noStrike">
              <a:solidFill>
                <a:srgbClr val="000000"/>
              </a:solidFill>
              <a:latin typeface="Times New Roman"/>
            </a:endParaRPr>
          </a:p>
        </p:txBody>
      </p:sp>
      <p:sp>
        <p:nvSpPr>
          <p:cNvPr id="93" name=""/>
          <p:cNvSpPr/>
          <p:nvPr/>
        </p:nvSpPr>
        <p:spPr>
          <a:xfrm>
            <a:off x="3708360" y="1125360"/>
            <a:ext cx="576360" cy="4967640"/>
          </a:xfrm>
          <a:custGeom>
            <a:avLst/>
            <a:gdLst>
              <a:gd name="textAreaLeft" fmla="*/ 368280 w 576360"/>
              <a:gd name="textAreaRight" fmla="*/ 576720 w 576360"/>
              <a:gd name="textAreaTop" fmla="*/ 129240 h 4967640"/>
              <a:gd name="textAreaBottom" fmla="*/ 4838400 h 496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4. Wartung</a:t>
            </a:r>
            <a:endParaRPr b="1" lang="en-US" sz="2000" spc="-1" strike="noStrike">
              <a:solidFill>
                <a:srgbClr val="000000"/>
              </a:solidFill>
              <a:latin typeface="Arial"/>
            </a:endParaRPr>
          </a:p>
        </p:txBody>
      </p:sp>
      <p:sp>
        <p:nvSpPr>
          <p:cNvPr id="95" name="PlaceHolder 2"/>
          <p:cNvSpPr>
            <a:spLocks noGrp="1"/>
          </p:cNvSpPr>
          <p:nvPr>
            <p:ph/>
          </p:nvPr>
        </p:nvSpPr>
        <p:spPr>
          <a:xfrm>
            <a:off x="4647960" y="1125000"/>
            <a:ext cx="3809880" cy="49676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tensicherun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urchführung regelmäßiger Datensicherunge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oftware-Wartun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inspielen neuer Update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formation über und ggf. Einsatz von Upgrades</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ardware-Wartun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standhaltung der Hardwar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formation über und ggf. Einsatz von neuer Hardwar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ulung neuer Mitarbeiter</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twicklung eines Konzepts zur Schulung neuer Mitarbeiter im Umgang mit der Softwar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
          <p:cNvSpPr/>
          <p:nvPr/>
        </p:nvSpPr>
        <p:spPr>
          <a:xfrm>
            <a:off x="539640" y="3263760"/>
            <a:ext cx="295128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hase 4:</a:t>
            </a:r>
            <a:br>
              <a:rPr sz="1800"/>
            </a:br>
            <a:r>
              <a:rPr b="1" lang="de-DE" sz="2400" spc="-1" strike="noStrike">
                <a:solidFill>
                  <a:srgbClr val="000000"/>
                </a:solidFill>
                <a:latin typeface="Arial"/>
              </a:rPr>
              <a:t>Wartung</a:t>
            </a:r>
            <a:endParaRPr b="0" lang="en-US" sz="2400" spc="-1" strike="noStrike">
              <a:solidFill>
                <a:srgbClr val="000000"/>
              </a:solidFill>
              <a:latin typeface="Times New Roman"/>
            </a:endParaRPr>
          </a:p>
        </p:txBody>
      </p:sp>
      <p:sp>
        <p:nvSpPr>
          <p:cNvPr id="97" name=""/>
          <p:cNvSpPr/>
          <p:nvPr/>
        </p:nvSpPr>
        <p:spPr>
          <a:xfrm>
            <a:off x="3708360" y="1125360"/>
            <a:ext cx="576360" cy="4967640"/>
          </a:xfrm>
          <a:custGeom>
            <a:avLst/>
            <a:gdLst>
              <a:gd name="textAreaLeft" fmla="*/ 368280 w 576360"/>
              <a:gd name="textAreaRight" fmla="*/ 576720 w 576360"/>
              <a:gd name="textAreaTop" fmla="*/ 129240 h 4967640"/>
              <a:gd name="textAreaBottom" fmla="*/ 4838400 h 496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1. Analyse</a:t>
            </a:r>
            <a:endParaRPr b="1" lang="en-US" sz="2000" spc="-1" strike="noStrike">
              <a:solidFill>
                <a:srgbClr val="000000"/>
              </a:solidFill>
              <a:latin typeface="Arial"/>
            </a:endParaRPr>
          </a:p>
        </p:txBody>
      </p:sp>
      <p:sp>
        <p:nvSpPr>
          <p:cNvPr id="54" name="PlaceHolder 2"/>
          <p:cNvSpPr>
            <a:spLocks noGrp="1"/>
          </p:cNvSpPr>
          <p:nvPr>
            <p:ph/>
          </p:nvPr>
        </p:nvSpPr>
        <p:spPr>
          <a:xfrm>
            <a:off x="4647960" y="1125000"/>
            <a:ext cx="3809880" cy="49676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raterauswahl</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n kann ich als externen Berater hinzu zieh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Aufgaben soll er für uns erfüll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Aufgaben übernehmen interne Mitarbeite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nalyse des IST-Zustande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r sind die Beteiligt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Aufgaben erfüllt jeder Beteiligt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e findet der Informationsaustausch zwischen den Beteiligten stat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Schritte sind notwendig, bis ein Dienstplan gestaltet is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Formulare werden benutz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Strukturen sind bereits vorhanden (Räume, Netzwerk etc.)?</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
          <p:cNvSpPr/>
          <p:nvPr/>
        </p:nvSpPr>
        <p:spPr>
          <a:xfrm>
            <a:off x="539640" y="3263760"/>
            <a:ext cx="295128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hase 1:</a:t>
            </a:r>
            <a:br>
              <a:rPr sz="1800"/>
            </a:br>
            <a:r>
              <a:rPr b="1" lang="de-DE" sz="2400" spc="-1" strike="noStrike">
                <a:solidFill>
                  <a:srgbClr val="000000"/>
                </a:solidFill>
                <a:latin typeface="Arial"/>
              </a:rPr>
              <a:t>Analyse</a:t>
            </a:r>
            <a:endParaRPr b="0" lang="en-US" sz="2400" spc="-1" strike="noStrike">
              <a:solidFill>
                <a:srgbClr val="000000"/>
              </a:solidFill>
              <a:latin typeface="Times New Roman"/>
            </a:endParaRPr>
          </a:p>
        </p:txBody>
      </p:sp>
      <p:sp>
        <p:nvSpPr>
          <p:cNvPr id="56" name=""/>
          <p:cNvSpPr/>
          <p:nvPr/>
        </p:nvSpPr>
        <p:spPr>
          <a:xfrm>
            <a:off x="3708360" y="1125360"/>
            <a:ext cx="576360" cy="4967640"/>
          </a:xfrm>
          <a:custGeom>
            <a:avLst/>
            <a:gdLst>
              <a:gd name="textAreaLeft" fmla="*/ 368280 w 576360"/>
              <a:gd name="textAreaRight" fmla="*/ 576720 w 576360"/>
              <a:gd name="textAreaTop" fmla="*/ 129240 h 4967640"/>
              <a:gd name="textAreaBottom" fmla="*/ 4838400 h 496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1. Analyse: Methoden</a:t>
            </a:r>
            <a:endParaRPr b="1" lang="en-US" sz="2000" spc="-1" strike="noStrike">
              <a:solidFill>
                <a:srgbClr val="000000"/>
              </a:solidFill>
              <a:latin typeface="Arial"/>
            </a:endParaRPr>
          </a:p>
        </p:txBody>
      </p:sp>
      <p:sp>
        <p:nvSpPr>
          <p:cNvPr id="5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Bewertung des IST-Zustande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eilnehmende Beobachtu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ann z. B. zur Erhebung der Abläufe eingesetzt werden.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llte von einem externen Berater durchgeführt we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fragu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ann z. B. verwendet werden, um die Aufgaben jedes Beteiligten zu ermittel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empfiehlt sich, die Befragung in Form eines Interviews (halbstrukturiert) durchzuführ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okumentenanalys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ann z. B. verwendet werden, um die Inhalte der verwendeten Formulare zu analysieren.</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1. Analyse</a:t>
            </a:r>
            <a:endParaRPr b="1" lang="en-US" sz="2000" spc="-1" strike="noStrike">
              <a:solidFill>
                <a:srgbClr val="000000"/>
              </a:solidFill>
              <a:latin typeface="Arial"/>
            </a:endParaRPr>
          </a:p>
        </p:txBody>
      </p:sp>
      <p:sp>
        <p:nvSpPr>
          <p:cNvPr id="60" name="PlaceHolder 2"/>
          <p:cNvSpPr>
            <a:spLocks noGrp="1"/>
          </p:cNvSpPr>
          <p:nvPr>
            <p:ph/>
          </p:nvPr>
        </p:nvSpPr>
        <p:spPr>
          <a:xfrm>
            <a:off x="4647960" y="1125000"/>
            <a:ext cx="3809880" cy="49676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nalyse des SOLL-Zustande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Ziele sollen erreicht werd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Maßnahmen sind hierfür notwendi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rgebnis: Pflichtenheft</a:t>
            </a:r>
            <a:br>
              <a:rPr sz="1400"/>
            </a:br>
            <a:r>
              <a:rPr b="0" lang="de-DE" sz="1400" spc="-1" strike="noStrike">
                <a:solidFill>
                  <a:srgbClr val="000000"/>
                </a:solidFill>
                <a:latin typeface="Arial"/>
              </a:rPr>
              <a:t>Beschreibt alle Anforderungen, die vom Auftraggeber an die Software gestellt werden.</a:t>
            </a:r>
            <a:br>
              <a:rPr sz="1400"/>
            </a:br>
            <a:r>
              <a:rPr b="0" lang="de-DE" sz="1400" spc="-1" strike="noStrike">
                <a:solidFill>
                  <a:srgbClr val="000000"/>
                </a:solidFill>
                <a:latin typeface="Arial"/>
              </a:rPr>
              <a:t>Da das Pflichtenheft in der Regel als Vertragsgrundlage verwendet wird, sollten die Ausführungen so detailliert wie möglich sein.</a:t>
            </a:r>
            <a:br>
              <a:rPr sz="1400"/>
            </a:br>
            <a:r>
              <a:rPr b="0" lang="de-DE" sz="1400" spc="-1" strike="noStrike">
                <a:solidFill>
                  <a:srgbClr val="000000"/>
                </a:solidFill>
                <a:latin typeface="Arial"/>
              </a:rPr>
              <a:t>Ferner sollten Anforderungen, die in jedem Fall erfüllt sein müssen (KO-Kriterien) besonders gekennzeichnet sein.</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ngebotseinholun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urch öffentliche Ausschreibun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urch eigene Marktanalys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
          <p:cNvSpPr/>
          <p:nvPr/>
        </p:nvSpPr>
        <p:spPr>
          <a:xfrm>
            <a:off x="539640" y="3263760"/>
            <a:ext cx="295128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hase 1:</a:t>
            </a:r>
            <a:br>
              <a:rPr sz="1800"/>
            </a:br>
            <a:r>
              <a:rPr b="1" lang="de-DE" sz="2400" spc="-1" strike="noStrike">
                <a:solidFill>
                  <a:srgbClr val="000000"/>
                </a:solidFill>
                <a:latin typeface="Arial"/>
              </a:rPr>
              <a:t>Analyse</a:t>
            </a:r>
            <a:endParaRPr b="0" lang="en-US" sz="2400" spc="-1" strike="noStrike">
              <a:solidFill>
                <a:srgbClr val="000000"/>
              </a:solidFill>
              <a:latin typeface="Times New Roman"/>
            </a:endParaRPr>
          </a:p>
        </p:txBody>
      </p:sp>
      <p:sp>
        <p:nvSpPr>
          <p:cNvPr id="62" name=""/>
          <p:cNvSpPr/>
          <p:nvPr/>
        </p:nvSpPr>
        <p:spPr>
          <a:xfrm>
            <a:off x="3708360" y="1125360"/>
            <a:ext cx="576360" cy="4967640"/>
          </a:xfrm>
          <a:custGeom>
            <a:avLst/>
            <a:gdLst>
              <a:gd name="textAreaLeft" fmla="*/ 368280 w 576360"/>
              <a:gd name="textAreaRight" fmla="*/ 576720 w 576360"/>
              <a:gd name="textAreaTop" fmla="*/ 129240 h 4967640"/>
              <a:gd name="textAreaBottom" fmla="*/ 4838400 h 496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1. Analyse: Methoden</a:t>
            </a:r>
            <a:endParaRPr b="1" lang="en-US" sz="2000" spc="-1" strike="noStrike">
              <a:solidFill>
                <a:srgbClr val="000000"/>
              </a:solidFill>
              <a:latin typeface="Arial"/>
            </a:endParaRPr>
          </a:p>
        </p:txBody>
      </p:sp>
      <p:sp>
        <p:nvSpPr>
          <p:cNvPr id="64"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Öffentliche Ausschreibung</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öffentliche Ausschreibung sollte folgende Inhalte enthalte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forderte und erwünschte Funktione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rgegebene Systemvoraussetzungen (z. B. Betriebssystem).</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zahl der erforderlichen Arbeitsplätze.</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Auftragnehmer sollte zudem aufgefordert werden, folgende Inhalte in das Angebot mit aufzunehme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taillierte Beispielkostenrechnung (Lizenzen, Einführungskosten, Betriebskoste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t der Realisierung von Datenschutz und Datensicherheit.</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nittstellen zu anderen Produkte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weiterungsmöglichkeite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ferenzkunden.</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achte</a:t>
            </a:r>
            <a:r>
              <a:rPr b="0" lang="de-DE" sz="1600" spc="-1" strike="noStrike">
                <a:solidFill>
                  <a:srgbClr val="000000"/>
                </a:solidFill>
                <a:latin typeface="Arial"/>
              </a:rPr>
              <a:t>: Für öffentliche Einrichtungen gilt zusätzlich die „Verdingungsverordnung für Leistungen – VOL“. Internet: </a:t>
            </a:r>
            <a:r>
              <a:rPr b="0" lang="de-DE" sz="1600" spc="-1" strike="noStrike" u="sng">
                <a:solidFill>
                  <a:srgbClr val="0000cc"/>
                </a:solidFill>
                <a:uFillTx/>
                <a:latin typeface="Arial"/>
                <a:hlinkClick r:id="rId1"/>
              </a:rPr>
              <a:t>http://</a:t>
            </a:r>
            <a:r>
              <a:rPr b="0" lang="de-DE" sz="1600" spc="-1" strike="noStrike" u="sng">
                <a:solidFill>
                  <a:srgbClr val="0000cc"/>
                </a:solidFill>
                <a:uFillTx/>
                <a:latin typeface="Arial"/>
                <a:hlinkClick r:id="rId2"/>
              </a:rPr>
              <a:t>www.bund.de</a:t>
            </a:r>
            <a:r>
              <a:rPr b="0" lang="de-DE" sz="1600" spc="-1" strike="noStrike" u="sng">
                <a:solidFill>
                  <a:srgbClr val="0000cc"/>
                </a:solidFill>
                <a:uFillTx/>
                <a:latin typeface="Arial"/>
                <a:hlinkClick r:id="rId3"/>
              </a:rPr>
              <a:t>/Service-Center/Ausschreibungen/_x000b_Rechtliche-Grundlagen-.6471.ht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a:t>
            </a:r>
            <a:endParaRPr b="1" lang="en-US" sz="2000" spc="-1" strike="noStrike">
              <a:solidFill>
                <a:srgbClr val="000000"/>
              </a:solidFill>
              <a:latin typeface="Arial"/>
            </a:endParaRPr>
          </a:p>
        </p:txBody>
      </p:sp>
      <p:sp>
        <p:nvSpPr>
          <p:cNvPr id="66" name="PlaceHolder 2"/>
          <p:cNvSpPr>
            <a:spLocks noGrp="1"/>
          </p:cNvSpPr>
          <p:nvPr>
            <p:ph/>
          </p:nvPr>
        </p:nvSpPr>
        <p:spPr>
          <a:xfrm>
            <a:off x="4647960" y="1125000"/>
            <a:ext cx="3809880" cy="49676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utzwertanalys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orbereitung:</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sschluss der Anbieter, welche die KO-Kriterien nicht erfüllen.</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sschluss der Anbieter, die aus Kostengründen nicht in Frage komm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urchführung der Nutzwertanalys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rgebnis: Hersteller, die zur Produktpräsentation eingeladen werden.</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duktpräsentatio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äsentation eines Arbeitsablauf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äsentation von Besonderheiten der Softwar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
          <p:cNvSpPr/>
          <p:nvPr/>
        </p:nvSpPr>
        <p:spPr>
          <a:xfrm>
            <a:off x="539640" y="3263760"/>
            <a:ext cx="295128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hase 2:</a:t>
            </a:r>
            <a:br>
              <a:rPr sz="1800"/>
            </a:br>
            <a:r>
              <a:rPr b="1" lang="de-DE" sz="2400" spc="-1" strike="noStrike">
                <a:solidFill>
                  <a:srgbClr val="000000"/>
                </a:solidFill>
                <a:latin typeface="Arial"/>
              </a:rPr>
              <a:t>Auswahl</a:t>
            </a:r>
            <a:endParaRPr b="0" lang="en-US" sz="2400" spc="-1" strike="noStrike">
              <a:solidFill>
                <a:srgbClr val="000000"/>
              </a:solidFill>
              <a:latin typeface="Times New Roman"/>
            </a:endParaRPr>
          </a:p>
        </p:txBody>
      </p:sp>
      <p:sp>
        <p:nvSpPr>
          <p:cNvPr id="68" name=""/>
          <p:cNvSpPr/>
          <p:nvPr/>
        </p:nvSpPr>
        <p:spPr>
          <a:xfrm>
            <a:off x="3708360" y="1125360"/>
            <a:ext cx="576360" cy="4967640"/>
          </a:xfrm>
          <a:custGeom>
            <a:avLst/>
            <a:gdLst>
              <a:gd name="textAreaLeft" fmla="*/ 368280 w 576360"/>
              <a:gd name="textAreaRight" fmla="*/ 576720 w 576360"/>
              <a:gd name="textAreaTop" fmla="*/ 129240 h 4967640"/>
              <a:gd name="textAreaBottom" fmla="*/ 4838400 h 496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70"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Nutzwertanalys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Nutzwertanalyse dient der Bewertung gleichartiger Produkte.</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iel ist es, das Produkt mit dem größten Nutzen in Bezug auf den eigenen Betrieb zu ermittel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Bewertung erfolgt mit Hilfe der Vergabe von Punkten in Bezug auf alle wichtigen Funktionen der Softwar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sollten nicht zu viele Funktionen zur Bewertung herangezogen werden, um die Durchführung noch handhabbar zu gestalte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m die wesentlichen  Funktionen ausfindig zu machen, kann die „DIN EN ISO 9421 – Teil 10: Grundsätze der Dialoggestaltung“ herangezogen werden.</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sätzlich wird die Bepunktung gewichtet, um eine Unter- bzw. Überbewertung der Funktion zu vermeid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72"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xkurs: DIN EN ISO 9421 – Teil 10: Grundlagen der Dialoggestaltun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fgabenangemessenheit</a:t>
            </a:r>
            <a:r>
              <a:rPr b="0" lang="de-DE" sz="1600" spc="-1" strike="noStrike">
                <a:solidFill>
                  <a:srgbClr val="000000"/>
                </a:solidFill>
                <a:latin typeface="Arial"/>
              </a:rPr>
              <a:t>: Ein Dialog ist aufgabenangemessen, wenn er den Benutzer unterstützt, seine Arbeitsaufgabe effektiv und effizient zu erledig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elbstbeschreibungsfähigkeit</a:t>
            </a:r>
            <a:r>
              <a:rPr b="0" lang="de-DE" sz="1600" spc="-1" strike="noStrike">
                <a:solidFill>
                  <a:srgbClr val="000000"/>
                </a:solidFill>
                <a:latin typeface="Arial"/>
              </a:rPr>
              <a:t>: Ein Dialog ist selbstbeschreibungsfähig, wenn jeder einzelne Dialogschritt durch Rückmeldung des Dialogsystems unmittelbar verständlich ist oder dem Benutzer auf Anfrage erklärt wird.</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euerbarkeit</a:t>
            </a:r>
            <a:r>
              <a:rPr b="0" lang="de-DE" sz="1600" spc="-1" strike="noStrike">
                <a:solidFill>
                  <a:srgbClr val="000000"/>
                </a:solidFill>
                <a:latin typeface="Arial"/>
              </a:rPr>
              <a:t>: Ein Dialog ist steuerbar, wenn der Benutzer in der Lage ist, den Dialogablauf zu starten sowie seine Richtung und Geschwindigkeit zu beeinflussen, bis das Ziel erreicht ist.</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rwartungskonformität</a:t>
            </a:r>
            <a:r>
              <a:rPr b="0" lang="de-DE" sz="1600" spc="-1" strike="noStrike">
                <a:solidFill>
                  <a:srgbClr val="000000"/>
                </a:solidFill>
                <a:latin typeface="Arial"/>
              </a:rPr>
              <a:t>: Ein Dialog ist erwartungskonform, wenn er konsistent ist und den Merkmalen des Benutzers entspricht, z.B. den Kenntnissen aus dem Arbeitsgebiet, der Ausbildung und der Erfahrung des Benutzers sowie den allgemein annerkannten Konvention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74"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xkurs: DIN EN ISO 9421 – Teil 10: Grundlagen der Dialoggestaltun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ehlertoleranz</a:t>
            </a:r>
            <a:r>
              <a:rPr b="0" lang="de-DE" sz="1600" spc="-1" strike="noStrike">
                <a:solidFill>
                  <a:srgbClr val="000000"/>
                </a:solidFill>
                <a:latin typeface="Arial"/>
              </a:rPr>
              <a:t>: Ein Dialog ist fehlertolerant, wenn das beabsichtigte Arbeitsergebnis trotz erkennbar fehlerhafter Eingaben entweder mit keinem oder mit minimalem Korrekturaufwand durch den Benutzer erreicht werden kan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dividualisierbarkeit</a:t>
            </a:r>
            <a:r>
              <a:rPr b="0" lang="de-DE" sz="1600" spc="-1" strike="noStrike">
                <a:solidFill>
                  <a:srgbClr val="000000"/>
                </a:solidFill>
                <a:latin typeface="Arial"/>
              </a:rPr>
              <a:t>: Ein Dialog ist individualisierbar, wenn das Dialogsystem Anpassungen an die Erfordernisse der Arbeitsaufgabe, individuelle Vorlieben des Benutzers und Benutzerfähigkeiten zulässt.</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ernförderlichkeit</a:t>
            </a:r>
            <a:r>
              <a:rPr b="0" lang="de-DE" sz="1600" spc="-1" strike="noStrike">
                <a:solidFill>
                  <a:srgbClr val="000000"/>
                </a:solidFill>
                <a:latin typeface="Arial"/>
              </a:rPr>
              <a:t>: Ein Dialog ist lernförderlich, wenn er dem Benutzer beim Erlernen des Dialogsystems unterstützt und anleit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dreas Heil</cp:lastModifiedBy>
  <dcterms:modified xsi:type="dcterms:W3CDTF">2003-06-02T23:05:29Z</dcterms:modified>
  <cp:revision>87</cp:revision>
  <dc:subject/>
  <dc:title>PowerPoint Presentation</dc:title>
</cp:coreProperties>
</file>