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5. Software-Entwicklung II: IT Projekt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FBB6-7CAD-4292-AD09-4DCABFEA4A51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IT 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4:59Z</dcterms:modified>
  <cp:revision>67</cp:revision>
  <dc:subject/>
  <dc:title>PowerPoint Presentation</dc:title>
</cp:coreProperties>
</file>