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3258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5. Software II: Standard-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12E1D-2D4A-4F3E-8EF2-17529F2EA23F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Defin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125360"/>
            <a:ext cx="380988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tandard-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rd für den „anonymen“ Markt entwickel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xtverarbeit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abellenkalk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960" y="1125000"/>
            <a:ext cx="380988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dividual-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rd für einen einzelnen Anwender (Unternehmen) entwickel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triebliches Informations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tra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program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lumen-Lizenzprogramm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Word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abatt abhängig von der Anzahl der Lizenz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 5 Lizenzen (Microsoft) möglich, wobei diese nicht auf ein einzelnes Software-Produkt beschränkt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SL-Lizenz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Schüler, Studenten, Lehrkräfte) Word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ilweise enorme Rabat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Nutzer erhält eine Vollver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aussetzung ist der Nachweis als Student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ung: Die Software darf nicht kommerziell benutzt werden! Eine private Weiternutzung nach dem Studium ist jedoch erlaubt (zur Zeit noch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iet-Lizenzprogramm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Word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Software wird nicht gekauft, sondern für einen bestimmten Zeitraum gemie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si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jeder Hersteller bietet alle Lizenzmodell 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der Praxis gilt deshalb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rmieren Sie sich über die verschiedenen Lizenzangebote des Herstell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ventl. können Sie eine ältere Vollversion kostengünstig einkaufen, um danach ein Upgrade auf das aktuelle Produkt durchzuführ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ung: Vollversionen, die als Beilage in einer Computerzeitschrift angeboten werden, berechtigen in der Regel nicht zu einem Upgrade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eisbindung: Bedenken Sie, das Verkäufer von Software nicht an die „Unverbindliche Preisempfehlung“ gebunden sind. Vergleichen Sie dahe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pgrade-Garanti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arantie des Herstellers für einen bestimmten Zeitraum nach Kauf des Produk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garantiert ein kostenloses Upgrade im Falle einer neueren Ver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aktische Konsequenz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en Sie auf Hersteller, die solche Garantieleistungen anbieten. Kaufen Sie rechtzeitig das „alte“ Produkt und führen Sie anschließend das Upgrade durch. Sie besitzen dann 2 Produkte und können wählen, welches zum Einsatz komm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Office-Pake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ffice-Pakete enthalten mehrere Software-Produkte, die jeweils eine spezielle Aufgabe erfüllen. Meist sind in einem Paket enthalt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xtverarbei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bellenkalk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äsentations-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b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le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-Mail-Progra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Bildbearbeit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Zusatztools: z.B. Texterkennung, Sprachausgabe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in Office-Paketen enthaltenen Software-Produkte sind i. d. R. auch einzeln erhältl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jedes Office-Paket ist für alle Betriebssysteme erhältlich (z.B. Microsoft Office nur für die Betriebssysteme Windows und Mac OS, nicht jedoch für Linux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Office-Pakete und deren Nutz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r Orientieru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in Office-Paketen enthaltene Software kann als „Standard-Software“ betrachte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. h. jeder professionelle Nutzer eines Rechners sollte diese Anwendungen „kennen“ und sich mindestens mit der Textverarbeitung vertraut mach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in Office-Paketen enthaltene Software ist in der Regel weit verbreitet. D. h. man findet leichter Hilfe und das erworbene Wissen kann auch bei einem Unternehmenswechsel weiterverwende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sonderheit der Office-Pake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einzelnen Anwendungen sind aufeinander abgestimm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Datenaustausch zwischen den Anwendungen wird dadurch erleichte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eben dem (Standard-)Funktionsumfang können eigene Funktionen erstell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aussetzung hierfür ist ein offener Quellcode der Software oder eine eigene Programmiersprache, die im Office-Paket enthalten ist (z.B. Visual Basic for Applications (VBA) im Microsoft Office-Paket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gene Funktionen sollten nur in Absprache mit der EDV-Abteilung und der Unternehmensleitung eingeführt werden! Andernfalls besteht die Gefahr, dass der Mitarbeiter das Unternehmen verlässt und damit das notwendige Wissen verloren geht. Konsequenz: Datenverlust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Textverarbei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riefverke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rienbrie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stellen von Formula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ößere Druckwerke (über 200 Seiten) mit Einschränkun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Desktop Publish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Erstellen von Internet-Seit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oftware zur Textverarbeitung kann sowohl im Desktop Publishing als auch zur Gestaltung einfacher Internet-Seiten verwendet werden. Man sollte sich jedoch in jedem Fall vorher fragen, welche Erwartungen (genau) erfüllt werden soll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rsteller / Produkte (aktuelle Beispiele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crosoft: Word (2002/X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rel: WordPerfect (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n: StarOffice Writer (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eeware: Open Office Impress Writer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Tabellenkalk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tomatische Berechnung von Tabelleninhal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undfunktionen zur statistischen Berechn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stellen von Diagram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utzung als Datenbasis (z.B. für Serienbrief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rmelumfang in der Regel für die meisten betrieblichen Berechnungen ausreiche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rsteller / Produkte (aktuelle Beispiele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crosoft: Excel (2002/X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rel: Quattro Pro (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n: StarOffice Calc (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eeware: Open Office Calc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Datenbank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waltung umfangreicher strukturierter Datenbeständ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waltung von Datenbeständen, die von mehreren Anwendungen benutz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 B. Patientendaten einer Sozialstation (Anwendungen: Briefverkehr, Rechnungsschreibung, Pflegedokumentation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Bedienung von Datenbanken weicht stark von anderen Anwendungen ab. Da jedoch langfristig in allen Betrieben Datenbanken zum Einsatz kommen werden, sollte der Nutzer über folgende Kenntnisse verfüge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dienelemente einer Daten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undsätzliche Funktionsweise und Aufbau einer Datenban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 Office-Pakten enthaltene Datenbanken eignen sich nicht für „sehr große“ Datenbestände (z. B. eines Krankenhauses), da deren Leistungsfähigkeit eingeschränkt i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rsteller / Produkte (aktuelle Beispiele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crosoft: Access (2002/X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rel: Paradox (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n: StarOffice Base (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eeware: Open Office: nicht enthalten 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Präsentations-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ntwurf von Präsentations-Foli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ntwurf und Durchführung von Beamer-Präsentation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ntwurf von Durchführung von Werbepräsentationen (selbstlaufend), z. B. auf Messen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wendung der Software für geübte Nutzer einer Textverarbeitung sehr leicht mögli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fahr: Oft werden die technischen Möglichkeiten zu ausgiebig genutzt und der Endnutzer vom Inhalt der Präsentation abgelenk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chtigste Grundregel: Die Präsentation muss unter den vorgegebenen Bedingungen gut lesbar sein (Schriftgröße, Hintergrundkontrast zur Schriftfarbe in hellen Räumen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rsteller / Produkte (aktuelle Beispiele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crosoft: Powerpoint (2002/X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rel: Presentations (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n: StarOffice Impress (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eeware: Open Office Impress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Bildbearbeitung / Zeichenprogram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arbeitung von Fo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arbeitung von Grafi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stellen von Grafiken / Freihandzeichnun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Je nach Einsatzgebiet und Ausstattung der Software, eignen sich die Produkte entweder mehr zur Fotobearbeitung (Nachbearbeitung) oder mehr zum Erstellen eigener Grafik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in Office-Paketen enthaltenen Produkte stellen i. d. R. nur Grundfunktionen zur Verfügu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rsteller / Produkte (aktuelle Beispiele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crosoft: Photo Editor (2002/X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rel: nicht enthalten (10) / Ausweichprodukt: Corel Graphics Su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n: StarOffice Draw (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eeware: Open Office Draw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eeware: Gi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Leistungsgrenz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wendungen in Office-Produkten reichen meist im betrieblichen Alltag au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istungsgrenzen ergeben sich u. a. durc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nzahl der benötigten Funktio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mögliche Anzahl der gleichzeitigen Nutz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n Leistungsverlust bei Mehrplatznutz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Zugriffsgeschwindigkeit (insbesondere bei Datenbank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die Leistungsgrenze erreicht, muss auf Spezialprodukte ausgewichen werde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roschürenerstellung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S Word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dobe Pagema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tistische Berechnungen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S Excel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SP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ößere Datenbanken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S Acces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S SQL-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wendige Präsentationen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S Powerpoint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atchware Mediator P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tobearbeitung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S Photo Edito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dobe Photosh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Defin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tandard-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"/>
              </a:rPr>
              <a:t>Vorte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ine Enwicklungsk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ringe Upgradek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ringe Wahrscheinlichkeit von Software-Fehlern (= ausgereiftes Produk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he Zukunftssicherhe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hnell verfüg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96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dividual-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"/>
              </a:rPr>
              <a:t>Nachte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he Entwicklungsk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he Upgradek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he Wahrscheinlichkeit von Software-Fehle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kunftssicherheit abhängig vom Programmierer und dessen Doku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fügbar, erst nachdem die Software entwickelt wur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5651640"/>
            <a:ext cx="7777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d00f04"/>
                </a:solidFill>
                <a:latin typeface="Arial"/>
              </a:rPr>
              <a:t>Die Vorteile der Standard-Software entsprechen</a:t>
            </a:r>
            <a:br>
              <a:rPr sz="1400"/>
            </a:br>
            <a:r>
              <a:rPr b="0" lang="de-DE" sz="1400" spc="-1" strike="noStrike">
                <a:solidFill>
                  <a:srgbClr val="d00f04"/>
                </a:solidFill>
                <a:latin typeface="Arial"/>
              </a:rPr>
              <a:t>den Nachteilen der Individual-Software</a:t>
            </a:r>
            <a:br>
              <a:rPr sz="1400"/>
            </a:br>
            <a:r>
              <a:rPr b="0" lang="de-DE" sz="1400" spc="-1" strike="noStrike">
                <a:solidFill>
                  <a:srgbClr val="d00f04"/>
                </a:solidFill>
                <a:latin typeface="Arial"/>
              </a:rPr>
              <a:t>und umgekehrt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rkzeugset Software-Nutz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m mit einer Software effektiv arbeiten zu können, sollten vor der Nutzung folgende Fragen abgeklärt werden (Beispiel: Erzeugung eines Word-Dokuments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(inhaltlichen) Materialien benötige ich zur Datei-Erstellung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handschriftliches Skript, Bücher, Bilder (als Grafik-Date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Software benötige ich zur Dateibearbeitung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Wo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Datei-Export-Möglichkeiten gibt es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RTF, HTML, T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Hilfsmittel benötige ich zur Präsentation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Beamer (= Projektor), Drucker (zum Folienausdruc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Hilfsmittel benötige ich zur Datenweitergabe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E-Mail, Disket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ssen sich die Daten mit den mir zur Verfügung stehenden Mitteln sichern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Probleme der Speicherung bei sehr großer Word-Dat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nn der Empfänger das von mir erzeugte Datenformat mit seinen Mitteln bearbeiten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Empfänger besitzt Apple Macintosh und hat deshalb Probleme mit der korrekten Übernahme von Word-Datei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Defin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tandard-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"/>
              </a:rPr>
              <a:t>Nachte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he Lizenzk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gene Wünsche in der Programmgestaltung können nicht oder berücksichtig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ilweise überflüssige Funktion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96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dividual-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"/>
              </a:rPr>
              <a:t>Vorte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ine Lizenzk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gene Wünsche können voll berücksichtig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unktionen auf das Wesentliche beschränk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5651640"/>
            <a:ext cx="7777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d00f04"/>
                </a:solidFill>
                <a:latin typeface="Arial"/>
              </a:rPr>
              <a:t>Die Vorteile der Standard-Software entsprechen</a:t>
            </a:r>
            <a:br>
              <a:rPr sz="1400"/>
            </a:br>
            <a:r>
              <a:rPr b="0" lang="de-DE" sz="1400" spc="-1" strike="noStrike">
                <a:solidFill>
                  <a:srgbClr val="d00f04"/>
                </a:solidFill>
                <a:latin typeface="Arial"/>
              </a:rPr>
              <a:t>den Nachteilen der Individual-Software</a:t>
            </a:r>
            <a:br>
              <a:rPr sz="1400"/>
            </a:br>
            <a:r>
              <a:rPr b="0" lang="de-DE" sz="1400" spc="-1" strike="noStrike">
                <a:solidFill>
                  <a:srgbClr val="d00f04"/>
                </a:solidFill>
                <a:latin typeface="Arial"/>
              </a:rPr>
              <a:t>und umgekehrt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as ist eine Lizenz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 Lizenz berechtigt zur Nutzung der Softwa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ung: Der Kauf einer Lizenz entspricht nicht dem Kauf der Software! D. h. der „Datenträger“ mit dem eigentlichen Programm wird gesondert in Rechnung gestel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r darf die Software benutz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der Regel benötigt man für jeden Rechner eine Lizenz (sprich: fünf Rechner = fünf Lizenz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existieren jedoch auch Software-Produkte, deren Lizenz an eine Person gebunden ist! (z. B. Entwicklungssoftwa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-Begrif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724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ll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zenz, die zum Einsatz der Software an einem Arbeitsplatz berechti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p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illigte Lizenz, die zum Einsatz der Software an einem Arbeitsplatz berechti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Upgrade setzt voraus, dass Sie im Besitz einer älteren Vollversion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besitzen Word 97 und möchten nun Word 2000 einsetzen. In diesem Fall können Sie ein „Upgrade“ kaufen. Sie benötigen also keine Vollversio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ung: Achten Sie darauf, welche älteren Versionen zum Upgrade berechtigen. Eventuell kommt ein Mehrfach-Upgrade in Fr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besitzen Word 2.0 und können deshalb ein Upgrade auf Word 97 kaufen. Dies berechtigt Sie wiederum zu einem Upgrade auf Word 200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-Begrif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spricht lizenzrechtlich einem Upgrade, d. h. alle Voraussetzungen eines Upgrades müssen erfüllt s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ied: Das Crossgrade gestattet ein Upgrade v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m Produkt des gleichen Hersteller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obei der Kunde jedoch nicht das gleiche Produkt gebunden 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 im Internet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conceptdraw.com/de/purchase/CDPMindMap/upgrade.s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-Begrif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chnisch unterscheidet man zudem zwisch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rtungsversion“ einer Softwa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hrere Fehler wurden behob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leinere Funktionen neu hinzu gefügt oder verbesse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ist kostenl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ung: Upgrade und Update werden häufig von Software-Händlern synonym verwendet. Beachten Sie daher unbedingt, was der jeweilige Händler mit dem Begriff verbinde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d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ugf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hebung eines oder mehrerer kleiner Fehl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ftware erhält dadurch keine neuen Funktio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Bugfix kann in der Regel kostenlos vom Hersteller bezogen werden (meist per Download aus dem Interne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program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as sind Lizenzprogramm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zenzprogramme dienen der Preisgestaltung beim Verkauf einer Softwa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rich: Man kann die gleiche Software zu unterschiedlichen Preisen bezie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ied: Je teurer eine Lizenz ist, desto mehr Zusatzleistungen sind damit verbun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zenzprogramme werden vom Hersteller einer Software angeboten. D. h. jeder Hersteller bietet andere Lizenzprogramme 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s handel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c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lso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ich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m eine Softwar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zur Verwaltung von Lizenzen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program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icrosoft System-Builder Vers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m Beispiel Word X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e Umverpack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 Handbuch als Print-Version (lediglich eine Einführung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 kostenloser Support durch den Herste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OEM-Vers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Word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gilt das Gleiche wie für die System-Builder Version. Zusätzlich gil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Software darf nur mit einem neuen Rechner oder mit einer neuen Festplatte verkauf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Einzelverkauf von OEM-Software ist nicht zuläss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shalb insbesondere im Business-Bereich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Ihnen OEM-Software ohne entsprechende Hardware angeboten: Finger weg! Sie erwerben damit keine gültige Lizen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3-01-05T21:59:01Z</dcterms:modified>
  <cp:revision>95</cp:revision>
  <dc:subject/>
  <dc:title>PowerPoint Presentation</dc:title>
</cp:coreProperties>
</file>