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5. Software-Entwicklung II: IT Projekt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145F-EA8F-4BCE-936B-F91804C4E3B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-Entwicklung: IT 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4:59Z</dcterms:modified>
  <cp:revision>67</cp:revision>
  <dc:subject/>
  <dc:title>PowerPoint Presentation</dc:title>
</cp:coreProperties>
</file>