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583236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9. Software IV: Branchenneutrale Administrationssyste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F632-45C3-47E8-B214-8C6E118E0F63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ntrexx.de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lo-digital.de/" TargetMode="External"/><Relationship Id="rId2" Type="http://schemas.openxmlformats.org/officeDocument/2006/relationships/hyperlink" Target="http://www.elo-digital.de/" TargetMode="External"/><Relationship Id="rId3" Type="http://schemas.openxmlformats.org/officeDocument/2006/relationships/hyperlink" Target="http://bscw.gmd.de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ranchenneutrale Administrations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nungswes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ntentmanagement-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zialisierungen von Contentmanagement-System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ranet Lösungen 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intrexx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ranet-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okumentenmanagement-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LO-Office -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elo-digital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SCW -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bscw.gmd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4-01T16:39:00Z</dcterms:modified>
  <cp:revision>63</cp:revision>
  <dc:subject/>
  <dc:title>PowerPoint Presentation</dc:title>
</cp:coreProperties>
</file>