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010C-8C83-4477-8BE2-10E8CCE717C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9T14:47:30Z</dcterms:modified>
  <cp:revision>113</cp:revision>
  <dc:subject/>
  <dc:title>PowerPoint Presentation</dc:title>
</cp:coreProperties>
</file>