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325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5. Software II: Standard-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EBD0-7705-4A86-8CDC-56B79F3B4ABE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380988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für den „anonymen“ Markt entwick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xtverarbeit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bellenkalk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für einen einzelnen Anwender (Unternehmen) entwick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riebliches Informations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ra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lumen-Lizenzprogram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batt abhängig von der Anzahl der Lizenz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 5 Lizenzen (Microsoft) möglich, wobei diese nicht auf ein einzelnes Software-Produkt beschränk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SL-Lizenz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Schüler, Studenten, Lehrkräfte)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ilweise enorme Rabat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erhält eine Voll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aussetzung ist der Nachweis als Student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ie Software darf nicht kommerziell benutzt werden! Eine private Weiternutzung nach dem Studium ist jedoch erlaubt (zur Zeit noc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et-Lizenzprogram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oftware wird nicht gekauft, sondern für einen bestimmten Zeitraum gemie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s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r Hersteller bietet alle Lizenzmodell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Praxis gilt deshal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ieren Sie sich über die verschiedenen Lizenzangebote des Herstell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l. können Sie eine ältere Vollversion kostengünstig einkaufen, um danach ein Upgrade auf das aktuelle Produkt durchzufüh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Vollversionen, die als Beilage in einer Computerzeitschrift angeboten werden, berechtigen in der Regel nicht zu einem Upgrade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isbindung: Bedenken Sie, das Verkäufer von Software nicht an die „Unverbindliche Preisempfehlung“ gebunden sind. Vergleichen Sie dah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grade-Garant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arantie des Herstellers für einen bestimmten Zeitraum nach Kauf des Produk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garantiert ein kostenloses Upgrade im Falle einer neueren 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aktische Konsequenz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auf Hersteller, die solche Garantieleistungen anbieten. Kaufen Sie rechtzeitig das „alte“ Produkt und führen Sie anschließend das Upgrade durch. Sie besitzen dann 2 Produkte und können wählen, welches zum Einsatz komm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Office-Pake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ice-Pakete enthalten mehrere Software-Produkte, die jeweils eine spezielle Aufgabe erfüllen. Meist sind in einem Paket enthal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ver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kalk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äsentations-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le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-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Bildbe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Zusatztools: z.B. Texterkennung, Sprachausgab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in Office-Paketen enthaltenen Software-Produkte sind i. d. R. auch einzeln erhält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s Office-Paket ist für alle Betriebssysteme erhältlich (z.B. Microsoft Office nur für die Betriebssysteme Windows und Mac OS, nicht jedoch für Linux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Office-Pakete und deren Nutz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Orientier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 Software kann als „Standard-Software“ betracht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. h. jeder professionelle Nutzer eines Rechners sollte diese Anwendungen „kennen“ und sich mindestens mit der Textverarbeitung vertraut mac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 Software ist in der Regel weit verbreitet. D. h. man findet leichter Hilfe und das erworbene Wissen kann auch bei einem Unternehmenswechsel weiterverwend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onderheit der Office-Pak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einzelnen Anwendungen sind aufeinander abgestimm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Datenaustausch zwischen den Anwendungen wird dadurch erleichte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ben dem (Standard-)Funktionsumfang können eigene Funktionen erstell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aussetzung hierfür ist ein offener Quellcode der Software oder eine eigene Programmiersprache, die im Office-Paket enthalten ist (z.B. Visual Basic for Applications (VBA) im Microsoft Office-Pake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Funktionen sollten nur in Absprache mit der EDV-Abteilung und der Unternehmensleitung eingeführt werden! Andernfalls besteht die Gefahr, dass der Mitarbeiter das Unternehmen verlässt und damit das notwendige Wissen verloren geht. Konsequenz: Datenverlus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Textverarb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riefverke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rienbrie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Formula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ößere Druckwerke (über 200 Seiten) mit Einschränk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Desktop Publish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Erstellen von Internet-Sei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ftware zur Textverarbeitung kann sowohl im Desktop Publishing als auch zur Gestaltung einfacher Internet-Seiten verwendet werden. Man sollte sich jedoch in jedem Fall vorher fragen, welche Erwartungen (genau) erfüllt werden soll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Word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WordPerfect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Writer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Impress Writer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Tabellen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tomatische Berechnung von Tabelleninhal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funktionen zur statistischen Berech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Diagram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tzung als Datenbasis (z.B. für Serienbrief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melumfang in der Regel für die meisten betrieblichen Berechnungen ausreich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Excel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Quattro Pro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Calc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Calc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waltung umfangreicher strukturierter Datenbestän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waltung von Datenbeständen, die von mehreren Anwendungen benutz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 B. Patientendaten einer Sozialstation (Anwendungen: Briefverkehr, Rechnungsschreibung, Pflegedokumentation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Bedienung von Datenbanken weicht stark von anderen Anwendungen ab. Da jedoch langfristig in allen Betrieben Datenbanken zum Einsatz kommen werden, sollte der Nutzer über folgende Kenntnisse verfüg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dienelemente einer Daten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sätzliche Funktionsweise und Aufbau einer Datenban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 Office-Pakten enthaltene Datenbanken eignen sich nicht für „sehr große“ Datenbestände (z. B. eines Krankenhauses), da deren Leistungsfähigkeit eingeschränkt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Access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Paradox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Base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: nicht enthalten 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Präsentations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von Präsentations-Fol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und Durchführung von Beamer-Präsentatio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von Durchführung von Werbepräsentationen (selbstlaufend), z. B. auf Messen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wendung der Software für geübte Nutzer einer Textverarbeitung sehr leicht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: Oft werden die technischen Möglichkeiten zu ausgiebig genutzt und der Endnutzer vom Inhalt der Präsentation abgelen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chtigste Grundregel: Die Präsentation muss unter den vorgegebenen Bedingungen gut lesbar sein (Schriftgröße, Hintergrundkontrast zur Schriftfarbe in hellen Räumen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Powerpoint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Presentations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Impress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Impress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Bildbearbeitung / Zeichenprogr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arbeitung von Fo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arbeitung von Grafi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Grafiken / Freihandzeichn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 nach Einsatzgebiet und Ausstattung der Software, eignen sich die Produkte entweder mehr zur Fotobearbeitung (Nachbearbeitung) oder mehr zum Erstellen eigener Grafik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n Produkte stellen i. d. R. nur Grundfunktionen zur Verfüg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Photo Editor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nicht enthalten (10) / Ausweichprodukt: Corel Graphics Su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Draw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Draw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Gi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Leistungsgrenz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en in Office-Produkten reichen meist im betrieblichen Alltag a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stungsgrenzen ergeben sich u. a. dur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zahl der benötigten Funk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mögliche Anzahl der gleichzeitigen Nut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n Leistungsverlust bei Mehrplatznutz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Zugriffsgeschwindigkeit (insbesondere bei Datenbank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Leistungsgrenze erreicht, muss auf Spezialprodukte ausgewichen werd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roschürenerstellung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Wor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dobe Page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tistische Berechnung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Excel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P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re Datenbank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Acces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SQL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wendige Präsentation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Powerpoin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atchware Mediator P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tobearbeitung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Photo Edito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dobe Photos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Vor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Enwicklungs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Upgrade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Wahrscheinlichkeit von Software-Fehlern (= ausgereiftes Produk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Zukunftssicherh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nell verfüg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Nach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Entwicklungs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Upgrade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Wahrscheinlichkeit von Software-Fehl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kunftssicherheit abhängig vom Programmierer und dessen Dok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fügbar, erst nachdem die Software entwickelt wur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5651640"/>
            <a:ext cx="777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ie Vorteile der Standard-Software entsprechen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en Nachteilen der Individual-Software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und umgekehr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kzeugset Software-Nutz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 mit einer Software effektiv arbeiten zu können, sollten vor der Nutzung folgende Fragen abgeklärt werden (Beispiel: Erzeugung eines Word-Dokument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(inhaltlichen) Materialien benötige ich zur Datei-Erstellung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handschriftliches Skript, Bücher, Bilder (als Grafik-Date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Software benötige ich zur Dateibearbeitung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Datei-Export-Möglichkeiten gibt es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RTF, HTML, 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Hilfsmittel benötige ich zur Präsentatio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Beamer (= Projektor), Drucker (zum Folienausdruc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Hilfsmittel benötige ich zur Datenweitergabe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E-Mail, Disk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sen sich die Daten mit den mir zur Verfügung stehenden Mitteln sicher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Probleme der Speicherung bei sehr großer Word-Dat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nn der Empfänger das von mir erzeugte Datenformat mit seinen Mitteln bearbeite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Empfänger besitzt Apple Macintosh und hat deshalb Probleme mit der korrekten Übernahme von Word-Datei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Nach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Lizenz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Wünsche in der Programmgestaltung können nicht oder berücksich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ilweise überflüssige Funktio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Vor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Lizenz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Wünsche können voll berücksich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ktionen auf das Wesentliche beschrän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5651640"/>
            <a:ext cx="777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ie Vorteile der Standard-Software entsprechen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en Nachteilen der Individual-Software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und umgekehr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s ist eine Lizenz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Lizenz berechtigt zur Nutzung d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er Kauf einer Lizenz entspricht nicht dem Kauf der Software! D. h. der „Datenträger“ mit dem eigentlichen Programm wird gesondert in Rechnung ge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r darf die Software benutz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Regel benötigt man für jeden Rechner eine Lizenz (sprich: fünf Rechner = fünf Lizenz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existieren jedoch auch Software-Produkte, deren Lizenz an eine Person gebunden ist! (z. B. Entwicklungssoftwa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ll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, die zum Einsatz der Software an einem Arbeitsplatz berecht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lligte Lizenz, die zum Einsatz der Software an einem Arbeitsplatz berecht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Upgrade setzt voraus, dass Sie im Besitz einer älteren Vollversio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sitzen Word 97 und möchten nun Word 2000 einsetzen. In diesem Fall können Sie ein „Upgrade“ kaufen. Sie benötigen also keine Vollvers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Achten Sie darauf, welche älteren Versionen zum Upgrade berechtigen. Eventuell kommt ein Mehrfach-Upgrade in Fr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sitzen Word 2.0 und können deshalb ein Upgrade auf Word 97 kaufen. Dies berechtigt Sie wiederum zu einem Upgrade auf Word 2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pricht lizenzrechtlich einem Upgrade, d. h. alle Voraussetzungen eines Upgrades müssen erfüllt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ied: Das Crossgrade gestattet ein Upgrade v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m Produkt des gleichen Herstell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obei der Kunde jedoch nicht das gleiche Produkt gebund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 im Internet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conceptdraw.com/de/purchase/CDPMindMap/upgrade.s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chnisch unterscheidet man zudem zwisch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sversion“ einer 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ere Fehler wurden beho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einere Funktionen neu hinzu gefügt oder verbess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kosten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Upgrade und Update werden häufig von Software-Händlern synonym verwendet. Beachten Sie daher unbedingt, was der jeweilige Händler mit dem Begriff verbinde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ugf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hebung eines oder mehrerer kleiner Fehl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erhält dadurch keine neuen Funkt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ugfix kann in der Regel kostenlos vom Hersteller bezogen werden (meist per Download aus dem Interne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s sind Lizenzprogramm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programme dienen der Preisgestaltung beim Verkauf ein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 Man kann die gleiche Software zu unterschiedlichen Preisen bezi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ied: Je teurer eine Lizenz ist, desto mehr Zusatzleistungen sind damit verbu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programme werden vom Hersteller einer Software angeboten. D. h. jeder Hersteller bietet andere Lizenzprogramme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s handel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c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lso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ich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m eine Softwar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r Verwaltung von Lizenzen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crosoft System-Builder Vers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m Beispiel Word X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Umverpack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Handbuch als Print-Version (lediglich eine Einführu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kostenloser Support durch den Herste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EM-Vers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gilt das Gleiche wie für die System-Builder Version. Zu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oftware darf nur mit einem neuen Rechner oder mit einer neuen Festplatte verkauf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Einzelverkauf von OEM-Software ist nicht zuläss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shalb insbesondere im Business-Bereic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hnen OEM-Software ohne entsprechende Hardware angeboten: Finger weg! Sie erwerben damit keine gültige Lizen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05T21:59:01Z</dcterms:modified>
  <cp:revision>95</cp:revision>
  <dc:subject/>
  <dc:title>PowerPoint Presentation</dc:title>
</cp:coreProperties>
</file>